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A19-E03B-4CCA-BA33-68BE3BF0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3D4-009E-4CD8-AEDE-6FCFF84E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43A-9C35-4EBB-8726-257131D2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1F6-F1A7-4069-BF5A-62D8288C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F804-ABBC-49FA-984E-85968AC6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62B1-CD56-43DD-9BE5-AFB33BC4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94FF-99EA-4BA3-B0CC-D44E95A7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D15B-0B94-4239-98E1-14D8AC1B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49FD-DFC9-4B37-8451-62004E87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C4DB-C463-4699-877F-E4B9F2A9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D7C8-44A3-43FF-B178-E7E8D930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786-387A-4D4C-A710-ACBE8445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66A9-D483-4EE4-9BE7-B40B7BB7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380F-6455-4792-9E1E-577DC41E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0B81-271E-4938-8D8B-CD506683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B683-66A1-4ADA-B399-6F8E05B4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AD1F-02B2-4CF0-8CE0-804A79DB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829-DFEA-41E6-B322-F14F25A3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FEE-CAE9-4E02-8092-1D8E33FE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259-D55C-4055-AA66-4586E95F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78A-4EEF-4802-BA90-83B52109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33C-4647-4A67-900C-F7D2D0DB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D87-03F5-4B3A-97AD-D7AC1BB9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B10-64DA-46BE-AF86-9A9260CB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DCA2-E5C5-4050-B10C-08CC84D4DA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F466-2BCA-4182-95E8-EFE4C94A04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14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plication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3, © Addison-Wesley 200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360" y="2895480"/>
            <a:ext cx="19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mitted and tentative updates in Bayou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924480" y="1833480"/>
            <a:ext cx="7886160" cy="3402720"/>
            <a:chOff x="924480" y="1833480"/>
            <a:chExt cx="7886160" cy="3402720"/>
          </a:xfrm>
        </p:grpSpPr>
        <p:sp>
          <p:nvSpPr>
            <p:cNvPr id="641" name=""/>
            <p:cNvSpPr/>
            <p:nvPr/>
          </p:nvSpPr>
          <p:spPr>
            <a:xfrm>
              <a:off x="1263600" y="2670120"/>
              <a:ext cx="596880" cy="67320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67000" y="2805120"/>
              <a:ext cx="252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59040" y="2670120"/>
              <a:ext cx="635040" cy="67320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46240" y="2805120"/>
              <a:ext cx="252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92280" y="2670120"/>
              <a:ext cx="596880" cy="67320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625840" y="2805120"/>
              <a:ext cx="2520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767040" y="2670120"/>
              <a:ext cx="598680" cy="67320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53520" y="2805120"/>
              <a:ext cx="2811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62480" y="2670120"/>
              <a:ext cx="636480" cy="67320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593600" y="2805120"/>
              <a:ext cx="18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95720" y="2670120"/>
              <a:ext cx="635040" cy="67320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77880" y="2805120"/>
              <a:ext cx="18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942240" y="2670120"/>
              <a:ext cx="635040" cy="67320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08640" y="2805120"/>
              <a:ext cx="1256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29120" y="3006720"/>
              <a:ext cx="144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79600" y="3006720"/>
              <a:ext cx="3672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65360" y="3006720"/>
              <a:ext cx="3816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52920" y="3006720"/>
              <a:ext cx="144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69040" y="3006720"/>
              <a:ext cx="144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18440" y="3006720"/>
              <a:ext cx="3780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05640" y="3006720"/>
              <a:ext cx="3816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92840" y="3006720"/>
              <a:ext cx="180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288280" y="3006720"/>
              <a:ext cx="180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437680" y="3006720"/>
              <a:ext cx="3816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624880" y="3006720"/>
              <a:ext cx="144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774280" y="3006720"/>
              <a:ext cx="3636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092320" y="1833480"/>
              <a:ext cx="1474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80280" y="1833480"/>
              <a:ext cx="125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nt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29320" y="2670120"/>
              <a:ext cx="598320" cy="67320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60360" y="2805120"/>
              <a:ext cx="185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38440" y="2595600"/>
              <a:ext cx="2803320" cy="14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25760" y="3343320"/>
              <a:ext cx="223920" cy="223920"/>
            </a:xfrm>
            <a:custGeom>
              <a:avLst/>
              <a:gdLst/>
              <a:ahLst/>
              <a:rect l="l" t="t" r="r" b="b"/>
              <a:pathLst>
                <a:path w="141" h="141">
                  <a:moveTo>
                    <a:pt x="71" y="118"/>
                  </a:moveTo>
                  <a:lnTo>
                    <a:pt x="0" y="141"/>
                  </a:lnTo>
                  <a:lnTo>
                    <a:pt x="47" y="0"/>
                  </a:lnTo>
                  <a:lnTo>
                    <a:pt x="141" y="94"/>
                  </a:lnTo>
                  <a:lnTo>
                    <a:pt x="71" y="118"/>
                  </a:lnTo>
                  <a:close/>
                </a:path>
              </a:pathLst>
            </a:custGeom>
            <a:solidFill>
              <a:srgbClr val="000000"/>
            </a:solidFill>
            <a:ln w="55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38800" y="3567240"/>
              <a:ext cx="1344600" cy="485640"/>
            </a:xfrm>
            <a:custGeom>
              <a:avLst/>
              <a:gdLst/>
              <a:ahLst/>
              <a:rect l="l" t="t" r="r" b="b"/>
              <a:pathLst>
                <a:path w="847" h="306">
                  <a:moveTo>
                    <a:pt x="847" y="306"/>
                  </a:moveTo>
                  <a:lnTo>
                    <a:pt x="306" y="236"/>
                  </a:lnTo>
                  <a:lnTo>
                    <a:pt x="117" y="118"/>
                  </a:lnTo>
                  <a:lnTo>
                    <a:pt x="0" y="0"/>
                  </a:lnTo>
                </a:path>
              </a:pathLst>
            </a:custGeom>
            <a:noFill/>
            <a:ln w="55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60360" y="2146320"/>
              <a:ext cx="187560" cy="1872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71"/>
                  </a:moveTo>
                  <a:lnTo>
                    <a:pt x="118" y="118"/>
                  </a:lnTo>
                  <a:lnTo>
                    <a:pt x="0" y="71"/>
                  </a:lnTo>
                  <a:lnTo>
                    <a:pt x="118" y="0"/>
                  </a:lnTo>
                  <a:lnTo>
                    <a:pt x="118" y="71"/>
                  </a:lnTo>
                  <a:close/>
                </a:path>
              </a:pathLst>
            </a:custGeom>
            <a:solidFill>
              <a:srgbClr val="000000"/>
            </a:solidFill>
            <a:ln w="55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176720" y="2146320"/>
              <a:ext cx="185760" cy="187200"/>
            </a:xfrm>
            <a:custGeom>
              <a:avLst/>
              <a:gdLst/>
              <a:ahLst/>
              <a:rect l="l" t="t" r="r" b="b"/>
              <a:pathLst>
                <a:path w="117" h="118">
                  <a:moveTo>
                    <a:pt x="0" y="71"/>
                  </a:moveTo>
                  <a:lnTo>
                    <a:pt x="0" y="0"/>
                  </a:lnTo>
                  <a:lnTo>
                    <a:pt x="117" y="71"/>
                  </a:lnTo>
                  <a:lnTo>
                    <a:pt x="0" y="118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55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447920" y="2259000"/>
              <a:ext cx="269064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38800" y="2146320"/>
              <a:ext cx="185760" cy="187200"/>
            </a:xfrm>
            <a:custGeom>
              <a:avLst/>
              <a:gdLst/>
              <a:ahLst/>
              <a:rect l="l" t="t" r="r" b="b"/>
              <a:pathLst>
                <a:path w="117" h="118">
                  <a:moveTo>
                    <a:pt x="117" y="71"/>
                  </a:moveTo>
                  <a:lnTo>
                    <a:pt x="117" y="118"/>
                  </a:lnTo>
                  <a:lnTo>
                    <a:pt x="0" y="71"/>
                  </a:lnTo>
                  <a:lnTo>
                    <a:pt x="117" y="0"/>
                  </a:lnTo>
                  <a:lnTo>
                    <a:pt x="117" y="71"/>
                  </a:lnTo>
                  <a:close/>
                </a:path>
              </a:pathLst>
            </a:custGeom>
            <a:solidFill>
              <a:srgbClr val="000000"/>
            </a:solidFill>
            <a:ln w="55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24560" y="2259000"/>
              <a:ext cx="280332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66040" y="2259000"/>
              <a:ext cx="3636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53240" y="2259000"/>
              <a:ext cx="3672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39000" y="2259000"/>
              <a:ext cx="180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988400" y="2259000"/>
              <a:ext cx="38160" cy="144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24480" y="4444920"/>
              <a:ext cx="7566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entative update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becomes the next committed upd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30600" y="4819680"/>
              <a:ext cx="67064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nd is inserted after the last committed update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593120" y="2670120"/>
              <a:ext cx="598320" cy="67320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35960" y="2805120"/>
              <a:ext cx="328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i="1" lang="en-GB" sz="2400" spc="-1" strike="noStrike" baseline="-25000">
                  <a:solidFill>
                    <a:srgbClr val="000000"/>
                  </a:solidFill>
                  <a:latin typeface="Arial"/>
                </a:rPr>
                <a:t>i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actions on replicated data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550800" y="1866960"/>
            <a:ext cx="8688600" cy="3591000"/>
            <a:chOff x="550800" y="1866960"/>
            <a:chExt cx="8688600" cy="3591000"/>
          </a:xfrm>
        </p:grpSpPr>
        <p:sp>
          <p:nvSpPr>
            <p:cNvPr id="689" name=""/>
            <p:cNvSpPr/>
            <p:nvPr/>
          </p:nvSpPr>
          <p:spPr>
            <a:xfrm>
              <a:off x="4794120" y="3222720"/>
              <a:ext cx="4445280" cy="2209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0800" y="3925800"/>
              <a:ext cx="3792600" cy="1532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57240" y="4327560"/>
              <a:ext cx="90360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33720" y="4654440"/>
              <a:ext cx="4014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87720" y="4327560"/>
              <a:ext cx="90324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38640" y="4603680"/>
              <a:ext cx="4014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944960" y="3324240"/>
              <a:ext cx="905040" cy="1028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195880" y="3600360"/>
              <a:ext cx="4032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58600" y="3666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0880" y="4327560"/>
              <a:ext cx="90504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901800" y="4603680"/>
              <a:ext cx="4032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48680" y="4672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97240" y="1905120"/>
              <a:ext cx="903240" cy="10047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84280" y="1892160"/>
              <a:ext cx="928800" cy="1028880"/>
            </a:xfrm>
            <a:prstGeom prst="rect">
              <a:avLst/>
            </a:prstGeom>
            <a:noFill/>
            <a:ln w="363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62680" y="197820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034480" y="4327560"/>
              <a:ext cx="90324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285040" y="4603680"/>
              <a:ext cx="4017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446320" y="4672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975280" y="4327560"/>
              <a:ext cx="90324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26200" y="4603680"/>
              <a:ext cx="4017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387480" y="4672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47000" y="4327560"/>
              <a:ext cx="904680" cy="1030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280280" y="4603680"/>
              <a:ext cx="4017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443000" y="4672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4640" y="47214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499560" y="4672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39240" y="3560760"/>
              <a:ext cx="128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etBalance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16680" y="1879560"/>
              <a:ext cx="905040" cy="10047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4080" y="1866960"/>
              <a:ext cx="928800" cy="1030320"/>
            </a:xfrm>
            <a:prstGeom prst="rect">
              <a:avLst/>
            </a:prstGeom>
            <a:noFill/>
            <a:ln w="363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083920" y="200340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20000" y="4062240"/>
              <a:ext cx="163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466400" y="3913200"/>
              <a:ext cx="163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58360" y="285768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eposit(B,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517880" y="236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998800" y="24112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04160" y="2319480"/>
              <a:ext cx="401400" cy="4014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333520" y="4452840"/>
              <a:ext cx="100080" cy="17640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32" y="16"/>
                  </a:moveTo>
                  <a:lnTo>
                    <a:pt x="63" y="16"/>
                  </a:lnTo>
                  <a:lnTo>
                    <a:pt x="16" y="111"/>
                  </a:lnTo>
                  <a:lnTo>
                    <a:pt x="0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2384280" y="2746440"/>
              <a:ext cx="276480" cy="17064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448240" y="3473280"/>
              <a:ext cx="150840" cy="101880"/>
            </a:xfrm>
            <a:custGeom>
              <a:avLst/>
              <a:gdLst/>
              <a:ahLst/>
              <a:rect l="l" t="t" r="r" b="b"/>
              <a:pathLst>
                <a:path w="95" h="64">
                  <a:moveTo>
                    <a:pt x="79" y="16"/>
                  </a:moveTo>
                  <a:lnTo>
                    <a:pt x="95" y="48"/>
                  </a:lnTo>
                  <a:lnTo>
                    <a:pt x="0" y="64"/>
                  </a:lnTo>
                  <a:lnTo>
                    <a:pt x="79" y="0"/>
                  </a:lnTo>
                  <a:lnTo>
                    <a:pt x="79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598720" y="2644920"/>
              <a:ext cx="1430280" cy="853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85240" y="4629240"/>
              <a:ext cx="149040" cy="100080"/>
            </a:xfrm>
            <a:custGeom>
              <a:avLst/>
              <a:gdLst/>
              <a:ahLst/>
              <a:rect l="l" t="t" r="r" b="b"/>
              <a:pathLst>
                <a:path w="94" h="63">
                  <a:moveTo>
                    <a:pt x="0" y="32"/>
                  </a:moveTo>
                  <a:lnTo>
                    <a:pt x="15" y="0"/>
                  </a:lnTo>
                  <a:lnTo>
                    <a:pt x="94" y="63"/>
                  </a:lnTo>
                  <a:lnTo>
                    <a:pt x="0" y="4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73880" y="3825720"/>
              <a:ext cx="2511360" cy="8542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05680" y="4603680"/>
              <a:ext cx="150840" cy="125640"/>
            </a:xfrm>
            <a:custGeom>
              <a:avLst/>
              <a:gdLst/>
              <a:ahLst/>
              <a:rect l="l" t="t" r="r" b="b"/>
              <a:pathLst>
                <a:path w="95" h="79">
                  <a:moveTo>
                    <a:pt x="0" y="32"/>
                  </a:moveTo>
                  <a:lnTo>
                    <a:pt x="15" y="0"/>
                  </a:lnTo>
                  <a:lnTo>
                    <a:pt x="95" y="79"/>
                  </a:lnTo>
                  <a:lnTo>
                    <a:pt x="0" y="4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73880" y="3900600"/>
              <a:ext cx="1531800" cy="753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75360" y="4579920"/>
              <a:ext cx="150840" cy="14940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16" y="15"/>
                  </a:moveTo>
                  <a:lnTo>
                    <a:pt x="32" y="0"/>
                  </a:lnTo>
                  <a:lnTo>
                    <a:pt x="95" y="94"/>
                  </a:lnTo>
                  <a:lnTo>
                    <a:pt x="0" y="31"/>
                  </a:lnTo>
                  <a:lnTo>
                    <a:pt x="16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97560" y="4025880"/>
              <a:ext cx="603360" cy="577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09920" y="2368440"/>
              <a:ext cx="401400" cy="4032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vailable cop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11280" y="1814400"/>
            <a:ext cx="8537400" cy="3538800"/>
            <a:chOff x="611280" y="1814400"/>
            <a:chExt cx="8537400" cy="3538800"/>
          </a:xfrm>
        </p:grpSpPr>
        <p:sp>
          <p:nvSpPr>
            <p:cNvPr id="738" name=""/>
            <p:cNvSpPr/>
            <p:nvPr/>
          </p:nvSpPr>
          <p:spPr>
            <a:xfrm>
              <a:off x="4792680" y="3151080"/>
              <a:ext cx="4356000" cy="2178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1280" y="3843360"/>
              <a:ext cx="3736800" cy="1509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82720" y="4240080"/>
              <a:ext cx="890640" cy="10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55600" y="4562640"/>
              <a:ext cx="395280" cy="3952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302480" y="4627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80280" y="4959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86280" y="4240080"/>
              <a:ext cx="890280" cy="10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16520" y="3249720"/>
              <a:ext cx="892080" cy="10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417760" y="1839960"/>
              <a:ext cx="890640" cy="988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37200" y="197496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129360" y="4214880"/>
              <a:ext cx="892080" cy="1014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377040" y="4487760"/>
              <a:ext cx="396720" cy="3952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03160" y="4933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11320" y="45529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67200" y="1814400"/>
              <a:ext cx="866880" cy="9907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84200" y="192564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240680" y="3360600"/>
              <a:ext cx="163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53840" y="272088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eposit(A,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40000" y="1930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009960" y="19303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416680" y="338940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eposit(B,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129000" y="2475000"/>
              <a:ext cx="128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etBalance(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415600" y="3092400"/>
              <a:ext cx="128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getBalance(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167200" y="3979800"/>
              <a:ext cx="163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58280" y="4959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91040" y="39686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986600" y="4191120"/>
              <a:ext cx="890640" cy="1014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34280" y="4462560"/>
              <a:ext cx="395280" cy="3967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368560" y="4529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084880" y="4910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490840" y="2284560"/>
              <a:ext cx="396720" cy="3967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213520" y="2260440"/>
              <a:ext cx="396720" cy="3952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33600" y="4476600"/>
              <a:ext cx="420840" cy="3970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80840" y="45784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64200" y="3522600"/>
              <a:ext cx="396720" cy="3952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299920" y="35877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401840" y="4387680"/>
              <a:ext cx="123840" cy="14940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47" y="16"/>
                  </a:moveTo>
                  <a:lnTo>
                    <a:pt x="78" y="32"/>
                  </a:lnTo>
                  <a:lnTo>
                    <a:pt x="0" y="94"/>
                  </a:lnTo>
                  <a:lnTo>
                    <a:pt x="32" y="0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1476000" y="2655720"/>
              <a:ext cx="1089000" cy="1731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991040" y="3522600"/>
              <a:ext cx="149400" cy="12384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0" y="31"/>
                  </a:moveTo>
                  <a:lnTo>
                    <a:pt x="16" y="0"/>
                  </a:lnTo>
                  <a:lnTo>
                    <a:pt x="94" y="78"/>
                  </a:lnTo>
                  <a:lnTo>
                    <a:pt x="0" y="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87560" y="2581200"/>
              <a:ext cx="2103480" cy="9907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654360" y="4363920"/>
              <a:ext cx="123840" cy="14760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63" y="15"/>
                  </a:moveTo>
                  <a:lnTo>
                    <a:pt x="78" y="47"/>
                  </a:lnTo>
                  <a:lnTo>
                    <a:pt x="0" y="93"/>
                  </a:lnTo>
                  <a:lnTo>
                    <a:pt x="47" y="0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3754440" y="2606760"/>
              <a:ext cx="1533600" cy="1780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110440" y="4387680"/>
              <a:ext cx="147600" cy="123840"/>
            </a:xfrm>
            <a:custGeom>
              <a:avLst/>
              <a:gdLst/>
              <a:ahLst/>
              <a:rect l="l" t="t" r="r" b="b"/>
              <a:pathLst>
                <a:path w="93" h="78">
                  <a:moveTo>
                    <a:pt x="15" y="16"/>
                  </a:moveTo>
                  <a:lnTo>
                    <a:pt x="31" y="0"/>
                  </a:lnTo>
                  <a:lnTo>
                    <a:pt x="93" y="78"/>
                  </a:lnTo>
                  <a:lnTo>
                    <a:pt x="0" y="32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560920" y="2581200"/>
              <a:ext cx="2573280" cy="1832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035920" y="4537080"/>
              <a:ext cx="147600" cy="9828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0" y="31"/>
                  </a:moveTo>
                  <a:lnTo>
                    <a:pt x="15" y="0"/>
                  </a:lnTo>
                  <a:lnTo>
                    <a:pt x="93" y="62"/>
                  </a:lnTo>
                  <a:lnTo>
                    <a:pt x="0" y="4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35720" y="3770280"/>
              <a:ext cx="2500200" cy="816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29440" y="4462560"/>
              <a:ext cx="147600" cy="123840"/>
            </a:xfrm>
            <a:custGeom>
              <a:avLst/>
              <a:gdLst/>
              <a:ahLst/>
              <a:rect l="l" t="t" r="r" b="b"/>
              <a:pathLst>
                <a:path w="93" h="78">
                  <a:moveTo>
                    <a:pt x="15" y="16"/>
                  </a:moveTo>
                  <a:lnTo>
                    <a:pt x="31" y="0"/>
                  </a:lnTo>
                  <a:lnTo>
                    <a:pt x="93" y="78"/>
                  </a:lnTo>
                  <a:lnTo>
                    <a:pt x="0" y="4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86400" y="3868560"/>
              <a:ext cx="766800" cy="619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576440" y="4710240"/>
              <a:ext cx="147600" cy="9828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93" y="31"/>
                  </a:moveTo>
                  <a:lnTo>
                    <a:pt x="93" y="62"/>
                  </a:lnTo>
                  <a:lnTo>
                    <a:pt x="0" y="47"/>
                  </a:lnTo>
                  <a:lnTo>
                    <a:pt x="93" y="0"/>
                  </a:lnTo>
                  <a:lnTo>
                    <a:pt x="93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1749600" y="4710240"/>
              <a:ext cx="1558800" cy="48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twork parti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15160" y="1609560"/>
            <a:ext cx="8647920" cy="3640320"/>
            <a:chOff x="515160" y="1609560"/>
            <a:chExt cx="8647920" cy="3640320"/>
          </a:xfrm>
        </p:grpSpPr>
        <p:sp>
          <p:nvSpPr>
            <p:cNvPr id="790" name=""/>
            <p:cNvSpPr/>
            <p:nvPr/>
          </p:nvSpPr>
          <p:spPr>
            <a:xfrm>
              <a:off x="754200" y="2940120"/>
              <a:ext cx="8408880" cy="2209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870440" y="3065400"/>
              <a:ext cx="905040" cy="1005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35320" y="1635120"/>
              <a:ext cx="904680" cy="1003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5160" y="169704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83360" y="4044960"/>
              <a:ext cx="903600" cy="1028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09080" y="4321080"/>
              <a:ext cx="4269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371800" y="4387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930240" y="4044960"/>
              <a:ext cx="903240" cy="1028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109960" y="4044960"/>
              <a:ext cx="903240" cy="1028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360520" y="4321080"/>
              <a:ext cx="4269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17040" y="2224080"/>
              <a:ext cx="129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withdraw(B, 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53320" y="1609560"/>
              <a:ext cx="904680" cy="1005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34600" y="172080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+ front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391880" y="3654360"/>
              <a:ext cx="163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09120" y="250020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eposit(B,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443360" y="20779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49480" y="2154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8120" y="199404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677760" y="22446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11280" y="2085840"/>
              <a:ext cx="4017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929280" y="2062080"/>
              <a:ext cx="40176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21360" y="3341520"/>
              <a:ext cx="4014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71480" y="34084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181160" y="4321080"/>
              <a:ext cx="401400" cy="401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29480" y="4387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482840" y="4170240"/>
              <a:ext cx="99720" cy="17640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47" y="16"/>
                  </a:moveTo>
                  <a:lnTo>
                    <a:pt x="63" y="32"/>
                  </a:lnTo>
                  <a:lnTo>
                    <a:pt x="0" y="111"/>
                  </a:lnTo>
                  <a:lnTo>
                    <a:pt x="15" y="0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1557360" y="2463840"/>
              <a:ext cx="928800" cy="1731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09680" y="4471920"/>
              <a:ext cx="176400" cy="74520"/>
            </a:xfrm>
            <a:custGeom>
              <a:avLst/>
              <a:gdLst/>
              <a:ahLst/>
              <a:rect l="l" t="t" r="r" b="b"/>
              <a:pathLst>
                <a:path w="111" h="47">
                  <a:moveTo>
                    <a:pt x="0" y="31"/>
                  </a:moveTo>
                  <a:lnTo>
                    <a:pt x="0" y="0"/>
                  </a:lnTo>
                  <a:lnTo>
                    <a:pt x="111" y="31"/>
                  </a:lnTo>
                  <a:lnTo>
                    <a:pt x="0" y="4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57360" y="4521240"/>
              <a:ext cx="6523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99000" y="3241800"/>
              <a:ext cx="149400" cy="125280"/>
            </a:xfrm>
            <a:custGeom>
              <a:avLst/>
              <a:gdLst/>
              <a:ahLst/>
              <a:rect l="l" t="t" r="r" b="b"/>
              <a:pathLst>
                <a:path w="94" h="79">
                  <a:moveTo>
                    <a:pt x="79" y="31"/>
                  </a:moveTo>
                  <a:lnTo>
                    <a:pt x="94" y="47"/>
                  </a:lnTo>
                  <a:lnTo>
                    <a:pt x="0" y="79"/>
                  </a:lnTo>
                  <a:lnTo>
                    <a:pt x="63" y="0"/>
                  </a:lnTo>
                  <a:lnTo>
                    <a:pt x="79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5624640" y="2387520"/>
              <a:ext cx="1379520" cy="9032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034480" y="4370400"/>
              <a:ext cx="150840" cy="7632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0" y="16"/>
                  </a:moveTo>
                  <a:lnTo>
                    <a:pt x="15" y="0"/>
                  </a:lnTo>
                  <a:lnTo>
                    <a:pt x="95" y="48"/>
                  </a:lnTo>
                  <a:lnTo>
                    <a:pt x="0" y="4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499000" y="3618000"/>
              <a:ext cx="2535480" cy="777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514680" y="2865600"/>
              <a:ext cx="703440" cy="2384280"/>
            </a:xfrm>
            <a:custGeom>
              <a:avLst/>
              <a:gdLst/>
              <a:ahLst/>
              <a:rect l="l" t="t" r="r" b="b"/>
              <a:pathLst>
                <a:path w="443" h="1502">
                  <a:moveTo>
                    <a:pt x="48" y="15"/>
                  </a:moveTo>
                  <a:lnTo>
                    <a:pt x="301" y="348"/>
                  </a:lnTo>
                  <a:lnTo>
                    <a:pt x="0" y="585"/>
                  </a:lnTo>
                  <a:lnTo>
                    <a:pt x="253" y="822"/>
                  </a:lnTo>
                  <a:lnTo>
                    <a:pt x="0" y="1091"/>
                  </a:lnTo>
                  <a:lnTo>
                    <a:pt x="301" y="1502"/>
                  </a:lnTo>
                  <a:lnTo>
                    <a:pt x="427" y="1486"/>
                  </a:lnTo>
                  <a:lnTo>
                    <a:pt x="143" y="1091"/>
                  </a:lnTo>
                  <a:lnTo>
                    <a:pt x="396" y="838"/>
                  </a:lnTo>
                  <a:lnTo>
                    <a:pt x="159" y="585"/>
                  </a:lnTo>
                  <a:lnTo>
                    <a:pt x="443" y="332"/>
                  </a:lnTo>
                  <a:lnTo>
                    <a:pt x="190" y="0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ffffff"/>
            </a:solidFill>
            <a:ln w="36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801600" y="2487600"/>
              <a:ext cx="241560" cy="4636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21800" y="4387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Page 60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Gifford’s quorum concensus exampl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16400" y="117144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878600" y="1155600"/>
            <a:ext cx="1620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43200" y="1171440"/>
            <a:ext cx="15840" cy="53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216400" y="1171440"/>
            <a:ext cx="15840" cy="53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108840" y="1171440"/>
            <a:ext cx="17280" cy="53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02360" y="1171440"/>
            <a:ext cx="15840" cy="53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643200" y="172404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216400" y="172404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108840" y="1724040"/>
            <a:ext cx="172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002360" y="172404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6400" y="172404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16400" y="201600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216400" y="23083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643200" y="26161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216400" y="26161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08840" y="261612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002360" y="26161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216400" y="261612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216400" y="290844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216400" y="320040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643200" y="35082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216400" y="35082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108840" y="350820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002360" y="35082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216400" y="350820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16400" y="38005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43200" y="41083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216400" y="41083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08840" y="410832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002360" y="410832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301920" y="498492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216400" y="498492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108840" y="4984920"/>
            <a:ext cx="172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02360" y="4984920"/>
            <a:ext cx="158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301920" y="49849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216400" y="498492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01920" y="527688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216400" y="527688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301920" y="558468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16400" y="558468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108840" y="558468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002360" y="558468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01920" y="558468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216400" y="5584680"/>
            <a:ext cx="158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301920" y="587700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1920" y="61848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216400" y="5877000"/>
            <a:ext cx="158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216400" y="61848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108840" y="618480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002360" y="6184800"/>
            <a:ext cx="1584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2300400" y="1270080"/>
            <a:ext cx="5599080" cy="4884480"/>
            <a:chOff x="2300400" y="1270080"/>
            <a:chExt cx="5599080" cy="4884480"/>
          </a:xfrm>
        </p:grpSpPr>
        <p:sp>
          <p:nvSpPr>
            <p:cNvPr id="878" name=""/>
            <p:cNvSpPr/>
            <p:nvPr/>
          </p:nvSpPr>
          <p:spPr>
            <a:xfrm>
              <a:off x="5100480" y="1386000"/>
              <a:ext cx="86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xampl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62760" y="1386000"/>
              <a:ext cx="86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xamp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26120" y="1386000"/>
              <a:ext cx="86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xampl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35680" y="176364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a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935440" y="17636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66240" y="1811160"/>
              <a:ext cx="77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lica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39440" y="1763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131880" y="1763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25400" y="1763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43200" y="1724040"/>
              <a:ext cx="1584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08840" y="1724040"/>
              <a:ext cx="17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02360" y="1724040"/>
              <a:ext cx="1584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37480" y="2055960"/>
              <a:ext cx="115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millisecond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66240" y="2103480"/>
              <a:ext cx="77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lica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239440" y="2055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31520" y="205596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25040" y="205596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43200" y="2016000"/>
              <a:ext cx="1584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08840" y="2016000"/>
              <a:ext cx="1728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002360" y="2016000"/>
              <a:ext cx="1584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666240" y="2395440"/>
              <a:ext cx="77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lica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39440" y="23479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31520" y="234792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025040" y="234792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643200" y="2308320"/>
              <a:ext cx="1584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108840" y="2308320"/>
              <a:ext cx="17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02360" y="2308320"/>
              <a:ext cx="1584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335320" y="265572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o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838600" y="265572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66240" y="2703600"/>
              <a:ext cx="77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lica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239800" y="2655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1880" y="2655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025760" y="2655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43200" y="2616120"/>
              <a:ext cx="1584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08840" y="2616120"/>
              <a:ext cx="1728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002360" y="2616120"/>
              <a:ext cx="1584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34960" y="2948040"/>
              <a:ext cx="111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666240" y="2995560"/>
              <a:ext cx="77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lica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9800" y="2948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131880" y="2948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025760" y="2948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43200" y="2908440"/>
              <a:ext cx="1584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108840" y="2908440"/>
              <a:ext cx="17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002360" y="2908440"/>
              <a:ext cx="1584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66240" y="3287880"/>
              <a:ext cx="77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plica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39800" y="3240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131880" y="3240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025760" y="3240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643200" y="3200400"/>
              <a:ext cx="1584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08840" y="3200400"/>
              <a:ext cx="17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02360" y="3200400"/>
              <a:ext cx="1584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333880" y="3548160"/>
              <a:ext cx="67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uo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665520" y="3595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239800" y="3548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31880" y="3548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025760" y="3548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643200" y="3508200"/>
              <a:ext cx="1584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108840" y="3508200"/>
              <a:ext cx="1728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002360" y="3508200"/>
              <a:ext cx="1584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35680" y="384012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iz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665520" y="38876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239800" y="3840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31880" y="3840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25760" y="3840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43200" y="3800520"/>
              <a:ext cx="1584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08840" y="3800520"/>
              <a:ext cx="17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02360" y="3800520"/>
              <a:ext cx="1584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343240" y="4413240"/>
              <a:ext cx="2759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rived performance of file suit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34960" y="493704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326400" y="498492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239440" y="49849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131880" y="493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25400" y="493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108840" y="4897440"/>
              <a:ext cx="17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02360" y="4897440"/>
              <a:ext cx="1584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326400" y="5276880"/>
              <a:ext cx="1690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locking prob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239440" y="52768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131160" y="5229360"/>
              <a:ext cx="56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0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024320" y="5229360"/>
              <a:ext cx="76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00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08840" y="5189400"/>
              <a:ext cx="1728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002360" y="5189400"/>
              <a:ext cx="1584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36400" y="55371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26400" y="558648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239440" y="55864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131520" y="553716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025040" y="553716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108840" y="5497560"/>
              <a:ext cx="17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002360" y="5497560"/>
              <a:ext cx="1584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26400" y="5878440"/>
              <a:ext cx="1690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locking prob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239440" y="58784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31160" y="5829480"/>
              <a:ext cx="56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025400" y="58294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08840" y="5789520"/>
              <a:ext cx="1728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002360" y="5789520"/>
              <a:ext cx="1584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00400" y="1270080"/>
              <a:ext cx="559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00400" y="1681200"/>
              <a:ext cx="55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00400" y="2646360"/>
              <a:ext cx="55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00400" y="4167360"/>
              <a:ext cx="55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00400" y="4849920"/>
              <a:ext cx="55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00400" y="5511960"/>
              <a:ext cx="55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00400" y="6154560"/>
              <a:ext cx="55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300400" y="3541680"/>
              <a:ext cx="55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network parti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525600" y="2139840"/>
            <a:ext cx="8658000" cy="2435400"/>
            <a:chOff x="525600" y="2139840"/>
            <a:chExt cx="8658000" cy="2435400"/>
          </a:xfrm>
        </p:grpSpPr>
        <p:sp>
          <p:nvSpPr>
            <p:cNvPr id="982" name=""/>
            <p:cNvSpPr/>
            <p:nvPr/>
          </p:nvSpPr>
          <p:spPr>
            <a:xfrm>
              <a:off x="525600" y="2790720"/>
              <a:ext cx="8658000" cy="1665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05400" y="3176640"/>
              <a:ext cx="1071720" cy="1190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02400" y="3475080"/>
              <a:ext cx="476280" cy="47628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964640" y="3176640"/>
              <a:ext cx="1071360" cy="1190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261280" y="3475080"/>
              <a:ext cx="476280" cy="47628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3320" y="3176640"/>
              <a:ext cx="1071720" cy="1190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31760" y="3475080"/>
              <a:ext cx="476280" cy="47628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62160" y="3176640"/>
              <a:ext cx="1071720" cy="1190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30360" y="3475080"/>
              <a:ext cx="505080" cy="47628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32880" y="2854440"/>
              <a:ext cx="1944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675320" y="2139840"/>
              <a:ext cx="1809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etwork part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295360" y="40687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36280" y="40687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627520" y="40687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125920" y="40687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009600" y="22287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583280" y="2228760"/>
              <a:ext cx="1261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727360" y="3236760"/>
              <a:ext cx="149040" cy="208080"/>
            </a:xfrm>
            <a:custGeom>
              <a:avLst/>
              <a:gdLst/>
              <a:ahLst/>
              <a:rect l="l" t="t" r="r" b="b"/>
              <a:pathLst>
                <a:path w="94" h="131">
                  <a:moveTo>
                    <a:pt x="75" y="19"/>
                  </a:moveTo>
                  <a:lnTo>
                    <a:pt x="94" y="37"/>
                  </a:lnTo>
                  <a:lnTo>
                    <a:pt x="0" y="131"/>
                  </a:lnTo>
                  <a:lnTo>
                    <a:pt x="37" y="0"/>
                  </a:lnTo>
                  <a:lnTo>
                    <a:pt x="75" y="19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846160" y="2314440"/>
              <a:ext cx="625320" cy="952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536840" y="3683160"/>
              <a:ext cx="179280" cy="118800"/>
            </a:xfrm>
            <a:custGeom>
              <a:avLst/>
              <a:gdLst/>
              <a:ahLst/>
              <a:rect l="l" t="t" r="r" b="b"/>
              <a:pathLst>
                <a:path w="113" h="75">
                  <a:moveTo>
                    <a:pt x="113" y="37"/>
                  </a:moveTo>
                  <a:lnTo>
                    <a:pt x="113" y="75"/>
                  </a:lnTo>
                  <a:lnTo>
                    <a:pt x="0" y="37"/>
                  </a:lnTo>
                  <a:lnTo>
                    <a:pt x="113" y="0"/>
                  </a:lnTo>
                  <a:lnTo>
                    <a:pt x="113" y="37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1680840" y="3741840"/>
              <a:ext cx="77796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857760" y="2730600"/>
              <a:ext cx="655560" cy="1844640"/>
            </a:xfrm>
            <a:custGeom>
              <a:avLst/>
              <a:gdLst/>
              <a:ahLst/>
              <a:rect l="l" t="t" r="r" b="b"/>
              <a:pathLst>
                <a:path w="413" h="1162">
                  <a:moveTo>
                    <a:pt x="38" y="0"/>
                  </a:moveTo>
                  <a:lnTo>
                    <a:pt x="263" y="394"/>
                  </a:lnTo>
                  <a:lnTo>
                    <a:pt x="38" y="656"/>
                  </a:lnTo>
                  <a:lnTo>
                    <a:pt x="244" y="844"/>
                  </a:lnTo>
                  <a:lnTo>
                    <a:pt x="0" y="1162"/>
                  </a:lnTo>
                  <a:lnTo>
                    <a:pt x="150" y="1162"/>
                  </a:lnTo>
                  <a:lnTo>
                    <a:pt x="375" y="844"/>
                  </a:lnTo>
                  <a:lnTo>
                    <a:pt x="169" y="637"/>
                  </a:lnTo>
                  <a:lnTo>
                    <a:pt x="413" y="394"/>
                  </a:lnTo>
                  <a:lnTo>
                    <a:pt x="18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24720" y="2730600"/>
              <a:ext cx="655560" cy="1844640"/>
            </a:xfrm>
            <a:custGeom>
              <a:avLst/>
              <a:gdLst/>
              <a:ahLst/>
              <a:rect l="l" t="t" r="r" b="b"/>
              <a:pathLst>
                <a:path w="413" h="1162">
                  <a:moveTo>
                    <a:pt x="38" y="0"/>
                  </a:moveTo>
                  <a:lnTo>
                    <a:pt x="263" y="394"/>
                  </a:lnTo>
                  <a:lnTo>
                    <a:pt x="38" y="656"/>
                  </a:lnTo>
                  <a:lnTo>
                    <a:pt x="244" y="844"/>
                  </a:lnTo>
                  <a:lnTo>
                    <a:pt x="0" y="1162"/>
                  </a:lnTo>
                  <a:lnTo>
                    <a:pt x="150" y="1162"/>
                  </a:lnTo>
                  <a:lnTo>
                    <a:pt x="375" y="844"/>
                  </a:lnTo>
                  <a:lnTo>
                    <a:pt x="169" y="637"/>
                  </a:lnTo>
                  <a:lnTo>
                    <a:pt x="413" y="394"/>
                  </a:lnTo>
                  <a:lnTo>
                    <a:pt x="18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44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357960" y="2433600"/>
              <a:ext cx="490680" cy="370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4127040" y="2433600"/>
              <a:ext cx="505080" cy="363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irtual parti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612720" y="2070000"/>
            <a:ext cx="8616960" cy="2281320"/>
            <a:chOff x="612720" y="2070000"/>
            <a:chExt cx="8616960" cy="2281320"/>
          </a:xfrm>
        </p:grpSpPr>
        <p:sp>
          <p:nvSpPr>
            <p:cNvPr id="1009" name=""/>
            <p:cNvSpPr/>
            <p:nvPr/>
          </p:nvSpPr>
          <p:spPr>
            <a:xfrm>
              <a:off x="612720" y="2589120"/>
              <a:ext cx="8408880" cy="1617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02040" y="2935440"/>
              <a:ext cx="1040040" cy="1184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091120" y="3252960"/>
              <a:ext cx="520560" cy="46332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835760" y="2935440"/>
              <a:ext cx="1041480" cy="1184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124840" y="3252960"/>
              <a:ext cx="463680" cy="46332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14320" y="2935440"/>
              <a:ext cx="1041480" cy="1184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103400" y="3252960"/>
              <a:ext cx="463320" cy="46332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201760" y="2935440"/>
              <a:ext cx="1040040" cy="1184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490840" y="3252960"/>
              <a:ext cx="461880" cy="46332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15840" y="3805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360520" y="3805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989240" y="3805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994160" y="3805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17120" y="2619360"/>
              <a:ext cx="1944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plica manage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559040" y="2128680"/>
              <a:ext cx="1608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irtual part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419960" y="2070000"/>
              <a:ext cx="1809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etwork part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3963960" y="2270160"/>
              <a:ext cx="463680" cy="404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595520" y="3456000"/>
              <a:ext cx="201600" cy="85680"/>
            </a:xfrm>
            <a:custGeom>
              <a:avLst/>
              <a:gdLst/>
              <a:ahLst/>
              <a:rect l="l" t="t" r="r" b="b"/>
              <a:pathLst>
                <a:path w="127" h="54">
                  <a:moveTo>
                    <a:pt x="127" y="18"/>
                  </a:moveTo>
                  <a:lnTo>
                    <a:pt x="127" y="54"/>
                  </a:lnTo>
                  <a:lnTo>
                    <a:pt x="0" y="18"/>
                  </a:lnTo>
                  <a:lnTo>
                    <a:pt x="127" y="0"/>
                  </a:lnTo>
                  <a:lnTo>
                    <a:pt x="127" y="18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1796760" y="3484440"/>
              <a:ext cx="69372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889520" y="3484440"/>
              <a:ext cx="173160" cy="87480"/>
            </a:xfrm>
            <a:custGeom>
              <a:avLst/>
              <a:gdLst/>
              <a:ahLst/>
              <a:rect l="l" t="t" r="r" b="b"/>
              <a:pathLst>
                <a:path w="109" h="55">
                  <a:moveTo>
                    <a:pt x="0" y="18"/>
                  </a:moveTo>
                  <a:lnTo>
                    <a:pt x="0" y="0"/>
                  </a:lnTo>
                  <a:lnTo>
                    <a:pt x="109" y="18"/>
                  </a:lnTo>
                  <a:lnTo>
                    <a:pt x="0" y="5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4280" y="3513240"/>
              <a:ext cx="193680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708600" y="2589120"/>
              <a:ext cx="608040" cy="1762200"/>
            </a:xfrm>
            <a:custGeom>
              <a:avLst/>
              <a:gdLst/>
              <a:ahLst/>
              <a:rect l="l" t="t" r="r" b="b"/>
              <a:pathLst>
                <a:path w="383" h="1110">
                  <a:moveTo>
                    <a:pt x="19" y="0"/>
                  </a:moveTo>
                  <a:lnTo>
                    <a:pt x="255" y="382"/>
                  </a:lnTo>
                  <a:lnTo>
                    <a:pt x="37" y="619"/>
                  </a:lnTo>
                  <a:lnTo>
                    <a:pt x="237" y="819"/>
                  </a:lnTo>
                  <a:lnTo>
                    <a:pt x="0" y="1110"/>
                  </a:lnTo>
                  <a:lnTo>
                    <a:pt x="146" y="1110"/>
                  </a:lnTo>
                  <a:lnTo>
                    <a:pt x="365" y="819"/>
                  </a:lnTo>
                  <a:lnTo>
                    <a:pt x="164" y="619"/>
                  </a:lnTo>
                  <a:lnTo>
                    <a:pt x="383" y="382"/>
                  </a:lnTo>
                  <a:lnTo>
                    <a:pt x="18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42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6905520" y="2247840"/>
              <a:ext cx="439920" cy="341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overlapping virtual parti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592200" y="2038320"/>
            <a:ext cx="8690400" cy="2691000"/>
            <a:chOff x="592200" y="2038320"/>
            <a:chExt cx="8690400" cy="2691000"/>
          </a:xfrm>
        </p:grpSpPr>
        <p:sp>
          <p:nvSpPr>
            <p:cNvPr id="1034" name=""/>
            <p:cNvSpPr/>
            <p:nvPr/>
          </p:nvSpPr>
          <p:spPr>
            <a:xfrm>
              <a:off x="2114640" y="2038320"/>
              <a:ext cx="4332240" cy="2664000"/>
            </a:xfrm>
            <a:prstGeom prst="ellipse">
              <a:avLst/>
            </a:prstGeom>
            <a:solidFill>
              <a:srgbClr val="ffdc99"/>
            </a:solidFill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541680" y="2065320"/>
              <a:ext cx="4332240" cy="2664000"/>
            </a:xfrm>
            <a:prstGeom prst="ellipse">
              <a:avLst/>
            </a:prstGeom>
            <a:solidFill>
              <a:srgbClr val="ffdc99"/>
            </a:solidFill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92200" y="2077920"/>
              <a:ext cx="164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Virtual partitio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67640" y="217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507440" y="2077920"/>
              <a:ext cx="164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Virtual partition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9182880" y="2176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438280" y="2819520"/>
              <a:ext cx="968400" cy="1103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6840" y="3114720"/>
              <a:ext cx="430200" cy="430200"/>
            </a:xfrm>
            <a:prstGeom prst="ellipse">
              <a:avLst/>
            </a:pr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563560" y="3595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944880" y="2819520"/>
              <a:ext cx="968400" cy="1103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213080" y="3114720"/>
              <a:ext cx="432000" cy="430200"/>
            </a:xfrm>
            <a:prstGeom prst="ellipse">
              <a:avLst/>
            </a:pr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070160" y="3595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75280" y="2819520"/>
              <a:ext cx="968400" cy="1103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343480" y="3114720"/>
              <a:ext cx="430200" cy="430200"/>
            </a:xfrm>
            <a:prstGeom prst="ellipse">
              <a:avLst/>
            </a:pr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200200" y="3595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527880" y="2819520"/>
              <a:ext cx="968400" cy="1103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97520" y="3114720"/>
              <a:ext cx="430200" cy="430200"/>
            </a:xfrm>
            <a:prstGeom prst="ellipse">
              <a:avLst/>
            </a:pr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652440" y="359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14640" y="2038320"/>
              <a:ext cx="4332240" cy="2664000"/>
            </a:xfrm>
            <a:prstGeom prst="ellipse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541680" y="2065320"/>
              <a:ext cx="4332240" cy="2664000"/>
            </a:xfrm>
            <a:prstGeom prst="ellipse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reating a virtual parti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60320" y="1392120"/>
            <a:ext cx="838044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Phase 1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The initiator sends a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request to each potential member. The argument of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is a proposed logical timestamp for the new virtual partitio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When a replica manager receives a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request, it compares the proposed logical timestamp with that of its current virtual partitio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-287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f the proposed logical timestamp is greater it agrees to join and replies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-287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f it is less, it refuses to join and replies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Phase 2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f the initiator has received sufficient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replies to have read and write quora, it may complete the creation of the new virtual partition by sending a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Confirmation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message to the sites that agreed to join. The creation timestamp and list of actual members are sent as argument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6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Replica managers receiving the </a:t>
            </a:r>
            <a:r>
              <a:rPr b="0" i="1" lang="en-GB" sz="1900" spc="-1" strike="noStrike">
                <a:solidFill>
                  <a:srgbClr val="000000"/>
                </a:solidFill>
                <a:latin typeface="Times New Roman"/>
              </a:rPr>
              <a:t>Confirmation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message join the new virtual partition and record its creation timestamp and list of actual member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basic architectural model for the management of replicated data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91080" y="2001960"/>
            <a:ext cx="3640320" cy="3008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75080" y="2424240"/>
            <a:ext cx="692280" cy="66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75080" y="2424240"/>
            <a:ext cx="722160" cy="690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6280" y="260820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24360" y="2243160"/>
            <a:ext cx="1440" cy="3603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56920" y="1585800"/>
            <a:ext cx="1488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quests a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6440" y="191628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pl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94040" y="260820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49440" y="2243160"/>
            <a:ext cx="1023840" cy="102240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2040" y="4121280"/>
            <a:ext cx="803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pli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63800" y="420228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19200" y="3836880"/>
            <a:ext cx="1023840" cy="102240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8048520" y="2995560"/>
            <a:ext cx="360360" cy="108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603480" y="3053880"/>
            <a:ext cx="1444680" cy="10242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326360" y="4078440"/>
            <a:ext cx="722160" cy="2095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19240" y="3489480"/>
            <a:ext cx="803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0920" y="3359160"/>
            <a:ext cx="736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400040" y="3084120"/>
            <a:ext cx="420840" cy="482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399680" y="3567240"/>
            <a:ext cx="420840" cy="4204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61960" y="3459240"/>
            <a:ext cx="1154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ront en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27480" y="2693880"/>
            <a:ext cx="150840" cy="90720"/>
          </a:xfrm>
          <a:custGeom>
            <a:avLst/>
            <a:gdLst/>
            <a:ahLst/>
            <a:rect l="l" t="t" r="r" b="b"/>
            <a:pathLst>
              <a:path w="95" h="57">
                <a:moveTo>
                  <a:pt x="95" y="19"/>
                </a:moveTo>
                <a:lnTo>
                  <a:pt x="95" y="57"/>
                </a:lnTo>
                <a:lnTo>
                  <a:pt x="0" y="19"/>
                </a:lnTo>
                <a:lnTo>
                  <a:pt x="95" y="0"/>
                </a:lnTo>
                <a:lnTo>
                  <a:pt x="95" y="19"/>
                </a:lnTo>
                <a:close/>
              </a:path>
            </a:pathLst>
          </a:custGeom>
          <a:solidFill>
            <a:srgbClr val="000000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80120" y="2693880"/>
            <a:ext cx="150840" cy="90720"/>
          </a:xfrm>
          <a:custGeom>
            <a:avLst/>
            <a:gdLst/>
            <a:ahLst/>
            <a:rect l="l" t="t" r="r" b="b"/>
            <a:pathLst>
              <a:path w="95" h="57">
                <a:moveTo>
                  <a:pt x="0" y="19"/>
                </a:moveTo>
                <a:lnTo>
                  <a:pt x="0" y="0"/>
                </a:lnTo>
                <a:lnTo>
                  <a:pt x="95" y="19"/>
                </a:lnTo>
                <a:lnTo>
                  <a:pt x="0" y="57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08560" y="2724120"/>
            <a:ext cx="87156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7240" y="4317840"/>
            <a:ext cx="150840" cy="60480"/>
          </a:xfrm>
          <a:custGeom>
            <a:avLst/>
            <a:gdLst/>
            <a:ahLst/>
            <a:rect l="l" t="t" r="r" b="b"/>
            <a:pathLst>
              <a:path w="95" h="38">
                <a:moveTo>
                  <a:pt x="95" y="19"/>
                </a:moveTo>
                <a:lnTo>
                  <a:pt x="95" y="38"/>
                </a:lnTo>
                <a:lnTo>
                  <a:pt x="0" y="19"/>
                </a:lnTo>
                <a:lnTo>
                  <a:pt x="95" y="0"/>
                </a:lnTo>
                <a:lnTo>
                  <a:pt x="95" y="19"/>
                </a:lnTo>
                <a:close/>
              </a:path>
            </a:pathLst>
          </a:custGeom>
          <a:solidFill>
            <a:srgbClr val="000000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80120" y="4287960"/>
            <a:ext cx="150840" cy="90360"/>
          </a:xfrm>
          <a:custGeom>
            <a:avLst/>
            <a:gdLst/>
            <a:ahLst/>
            <a:rect l="l" t="t" r="r" b="b"/>
            <a:pathLst>
              <a:path w="95" h="57">
                <a:moveTo>
                  <a:pt x="0" y="19"/>
                </a:moveTo>
                <a:lnTo>
                  <a:pt x="0" y="0"/>
                </a:lnTo>
                <a:lnTo>
                  <a:pt x="95" y="19"/>
                </a:lnTo>
                <a:lnTo>
                  <a:pt x="0" y="57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348080" y="4317840"/>
            <a:ext cx="932040" cy="30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33760" y="2724120"/>
            <a:ext cx="149040" cy="60480"/>
          </a:xfrm>
          <a:custGeom>
            <a:avLst/>
            <a:gdLst/>
            <a:ahLst/>
            <a:rect l="l" t="t" r="r" b="b"/>
            <a:pathLst>
              <a:path w="94" h="38">
                <a:moveTo>
                  <a:pt x="94" y="19"/>
                </a:moveTo>
                <a:lnTo>
                  <a:pt x="94" y="38"/>
                </a:lnTo>
                <a:lnTo>
                  <a:pt x="0" y="19"/>
                </a:lnTo>
                <a:lnTo>
                  <a:pt x="94" y="0"/>
                </a:lnTo>
                <a:lnTo>
                  <a:pt x="94" y="19"/>
                </a:lnTo>
                <a:close/>
              </a:path>
            </a:pathLst>
          </a:custGeom>
          <a:solidFill>
            <a:srgbClr val="000000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5560" y="2724120"/>
            <a:ext cx="149040" cy="60480"/>
          </a:xfrm>
          <a:custGeom>
            <a:avLst/>
            <a:gdLst/>
            <a:ahLst/>
            <a:rect l="l" t="t" r="r" b="b"/>
            <a:pathLst>
              <a:path w="94" h="38">
                <a:moveTo>
                  <a:pt x="0" y="19"/>
                </a:moveTo>
                <a:lnTo>
                  <a:pt x="0" y="0"/>
                </a:lnTo>
                <a:lnTo>
                  <a:pt x="94" y="19"/>
                </a:lnTo>
                <a:lnTo>
                  <a:pt x="0" y="38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3040" y="2754360"/>
            <a:ext cx="45252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03520" y="4317840"/>
            <a:ext cx="149040" cy="90720"/>
          </a:xfrm>
          <a:custGeom>
            <a:avLst/>
            <a:gdLst/>
            <a:ahLst/>
            <a:rect l="l" t="t" r="r" b="b"/>
            <a:pathLst>
              <a:path w="94" h="57">
                <a:moveTo>
                  <a:pt x="94" y="38"/>
                </a:moveTo>
                <a:lnTo>
                  <a:pt x="94" y="57"/>
                </a:lnTo>
                <a:lnTo>
                  <a:pt x="0" y="38"/>
                </a:lnTo>
                <a:lnTo>
                  <a:pt x="94" y="0"/>
                </a:lnTo>
                <a:lnTo>
                  <a:pt x="94" y="38"/>
                </a:lnTo>
                <a:close/>
              </a:path>
            </a:pathLst>
          </a:custGeom>
          <a:solidFill>
            <a:srgbClr val="000000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65560" y="4317840"/>
            <a:ext cx="119160" cy="90720"/>
          </a:xfrm>
          <a:custGeom>
            <a:avLst/>
            <a:gdLst/>
            <a:ahLst/>
            <a:rect l="l" t="t" r="r" b="b"/>
            <a:pathLst>
              <a:path w="75" h="57">
                <a:moveTo>
                  <a:pt x="0" y="38"/>
                </a:moveTo>
                <a:lnTo>
                  <a:pt x="0" y="0"/>
                </a:lnTo>
                <a:lnTo>
                  <a:pt x="75" y="38"/>
                </a:lnTo>
                <a:lnTo>
                  <a:pt x="0" y="57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52560" y="4378320"/>
            <a:ext cx="48276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60320" y="4422600"/>
            <a:ext cx="107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2760" y="2212920"/>
            <a:ext cx="1022400" cy="99216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5320" y="2577960"/>
            <a:ext cx="375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34200" y="3957480"/>
            <a:ext cx="1022400" cy="99252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75840" y="4322880"/>
            <a:ext cx="375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75080" y="4017960"/>
            <a:ext cx="6922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75080" y="4017960"/>
            <a:ext cx="722160" cy="692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92520" y="420228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97680" y="2092320"/>
            <a:ext cx="1022400" cy="992160"/>
          </a:xfrm>
          <a:prstGeom prst="ellipse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44360" y="2457360"/>
            <a:ext cx="375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rvices provided for process group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69840" y="1311120"/>
            <a:ext cx="7785000" cy="4675320"/>
            <a:chOff x="969840" y="1311120"/>
            <a:chExt cx="7785000" cy="4675320"/>
          </a:xfrm>
        </p:grpSpPr>
        <p:sp>
          <p:nvSpPr>
            <p:cNvPr id="132" name=""/>
            <p:cNvSpPr/>
            <p:nvPr/>
          </p:nvSpPr>
          <p:spPr>
            <a:xfrm>
              <a:off x="3411360" y="1311120"/>
              <a:ext cx="2129040" cy="4675320"/>
            </a:xfrm>
            <a:prstGeom prst="ellipse">
              <a:avLst/>
            </a:prstGeom>
            <a:solidFill>
              <a:srgbClr val="ffdc99"/>
            </a:solidFill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80960" y="4905360"/>
              <a:ext cx="39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Joi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0160" y="163368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2040" y="1893960"/>
              <a:ext cx="77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31720" y="2152800"/>
              <a:ext cx="98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xpans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95560" y="2401920"/>
              <a:ext cx="363600" cy="649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97880" y="3736800"/>
              <a:ext cx="854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ultica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9480" y="3997440"/>
              <a:ext cx="145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53960" y="29336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9480" y="292428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32080" y="3244680"/>
              <a:ext cx="47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62400" y="3892680"/>
              <a:ext cx="351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ai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8280" y="3129120"/>
              <a:ext cx="13032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33"/>
                  </a:moveTo>
                  <a:lnTo>
                    <a:pt x="0" y="0"/>
                  </a:lnTo>
                  <a:lnTo>
                    <a:pt x="82" y="33"/>
                  </a:lnTo>
                  <a:lnTo>
                    <a:pt x="0" y="4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27360" y="3181320"/>
              <a:ext cx="2025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83040" y="247968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16" y="66"/>
                  </a:moveTo>
                  <a:lnTo>
                    <a:pt x="0" y="49"/>
                  </a:lnTo>
                  <a:lnTo>
                    <a:pt x="81" y="0"/>
                  </a:lnTo>
                  <a:lnTo>
                    <a:pt x="32" y="82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411360" y="2584440"/>
              <a:ext cx="597240" cy="59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69840" y="2739960"/>
              <a:ext cx="882720" cy="857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60800" y="1778040"/>
              <a:ext cx="857160" cy="857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0800" y="2739960"/>
              <a:ext cx="857160" cy="857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60800" y="3726000"/>
              <a:ext cx="857160" cy="831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08600" y="3700440"/>
              <a:ext cx="129960" cy="10332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16" y="16"/>
                  </a:moveTo>
                  <a:lnTo>
                    <a:pt x="33" y="0"/>
                  </a:lnTo>
                  <a:lnTo>
                    <a:pt x="82" y="65"/>
                  </a:lnTo>
                  <a:lnTo>
                    <a:pt x="0" y="33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36920" y="3181320"/>
              <a:ext cx="596880" cy="51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92600" y="4738680"/>
              <a:ext cx="908280" cy="857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05480" y="5129280"/>
              <a:ext cx="12996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82" y="33"/>
                  </a:moveTo>
                  <a:lnTo>
                    <a:pt x="82" y="49"/>
                  </a:lnTo>
                  <a:lnTo>
                    <a:pt x="0" y="33"/>
                  </a:lnTo>
                  <a:lnTo>
                    <a:pt x="82" y="0"/>
                  </a:lnTo>
                  <a:lnTo>
                    <a:pt x="82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409720" y="5181480"/>
              <a:ext cx="1047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021280" y="5181480"/>
              <a:ext cx="233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760640" y="5181480"/>
              <a:ext cx="1047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48480" y="4089240"/>
              <a:ext cx="129960" cy="79560"/>
            </a:xfrm>
            <a:custGeom>
              <a:avLst/>
              <a:gdLst/>
              <a:ahLst/>
              <a:rect l="l" t="t" r="r" b="b"/>
              <a:pathLst>
                <a:path w="82" h="50">
                  <a:moveTo>
                    <a:pt x="0" y="33"/>
                  </a:moveTo>
                  <a:lnTo>
                    <a:pt x="0" y="0"/>
                  </a:lnTo>
                  <a:lnTo>
                    <a:pt x="82" y="33"/>
                  </a:lnTo>
                  <a:lnTo>
                    <a:pt x="0" y="5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17960" y="4141800"/>
              <a:ext cx="103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03800" y="4141800"/>
              <a:ext cx="258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5160" y="4141800"/>
              <a:ext cx="103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04080" y="3770280"/>
              <a:ext cx="185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roup membershi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15480" y="4005360"/>
              <a:ext cx="1262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6120" y="2854440"/>
              <a:ext cx="59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eav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48480" y="3076560"/>
              <a:ext cx="129960" cy="777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33"/>
                  </a:moveTo>
                  <a:lnTo>
                    <a:pt x="0" y="0"/>
                  </a:lnTo>
                  <a:lnTo>
                    <a:pt x="82" y="33"/>
                  </a:lnTo>
                  <a:lnTo>
                    <a:pt x="0" y="4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7960" y="3129120"/>
              <a:ext cx="103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03800" y="3129120"/>
              <a:ext cx="2588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45160" y="3129120"/>
              <a:ext cx="1033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748120" y="3258720"/>
              <a:ext cx="1090440" cy="701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540040" y="3960720"/>
              <a:ext cx="1298520" cy="25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410080" y="3960360"/>
              <a:ext cx="1428840" cy="986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281040" y="3570120"/>
              <a:ext cx="571320" cy="363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281040" y="3181320"/>
              <a:ext cx="493560" cy="752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281400" y="2870280"/>
              <a:ext cx="441360" cy="1063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5480" y="5442120"/>
              <a:ext cx="139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rocess grou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62480" y="5595840"/>
              <a:ext cx="442800" cy="1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iew-synchronous group communi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65360" y="1239840"/>
            <a:ext cx="7905600" cy="4775040"/>
            <a:chOff x="765360" y="1239840"/>
            <a:chExt cx="7905600" cy="4775040"/>
          </a:xfrm>
        </p:grpSpPr>
        <p:sp>
          <p:nvSpPr>
            <p:cNvPr id="180" name=""/>
            <p:cNvSpPr/>
            <p:nvPr/>
          </p:nvSpPr>
          <p:spPr>
            <a:xfrm>
              <a:off x="4316400" y="18320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0" y="0"/>
                  </a:lnTo>
                  <a:lnTo>
                    <a:pt x="56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03520" y="1876320"/>
              <a:ext cx="25905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16400" y="2255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0" y="0"/>
                  </a:lnTo>
                  <a:lnTo>
                    <a:pt x="56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03520" y="2300400"/>
              <a:ext cx="25905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16400" y="2679840"/>
              <a:ext cx="88920" cy="112680"/>
            </a:xfrm>
            <a:custGeom>
              <a:avLst/>
              <a:gdLst/>
              <a:ahLst/>
              <a:rect l="l" t="t" r="r" b="b"/>
              <a:pathLst>
                <a:path w="56" h="71">
                  <a:moveTo>
                    <a:pt x="0" y="43"/>
                  </a:moveTo>
                  <a:lnTo>
                    <a:pt x="0" y="0"/>
                  </a:lnTo>
                  <a:lnTo>
                    <a:pt x="56" y="43"/>
                  </a:lnTo>
                  <a:lnTo>
                    <a:pt x="0" y="7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03520" y="2747880"/>
              <a:ext cx="25905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45840" y="1746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45840" y="2170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98040" y="26686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17760" y="1765440"/>
              <a:ext cx="223920" cy="244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2417760" y="1765440"/>
              <a:ext cx="223920" cy="244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93840" y="1965240"/>
              <a:ext cx="9072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5" y="14"/>
                  </a:moveTo>
                  <a:lnTo>
                    <a:pt x="29" y="0"/>
                  </a:lnTo>
                  <a:lnTo>
                    <a:pt x="57" y="57"/>
                  </a:lnTo>
                  <a:lnTo>
                    <a:pt x="0" y="43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82960" y="1876320"/>
              <a:ext cx="134640" cy="111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60640" y="2077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0"/>
                  </a:lnTo>
                  <a:lnTo>
                    <a:pt x="42" y="56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82960" y="1876320"/>
              <a:ext cx="21960" cy="2016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28840" y="2077920"/>
              <a:ext cx="111240" cy="1335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328480" y="2077920"/>
              <a:ext cx="111240" cy="1335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82960" y="2166840"/>
              <a:ext cx="110880" cy="111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082960" y="2166840"/>
              <a:ext cx="110880" cy="1112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94040" y="1541520"/>
              <a:ext cx="144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71720" y="1652760"/>
              <a:ext cx="1440" cy="457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927080" y="178740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904760" y="1898640"/>
              <a:ext cx="2196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882800" y="203364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859040" y="2166840"/>
              <a:ext cx="2376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36720" y="230040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814400" y="243540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14400" y="2568600"/>
              <a:ext cx="180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92440" y="2679840"/>
              <a:ext cx="1440" cy="45720"/>
            </a:xfrm>
            <a:custGeom>
              <a:avLst/>
              <a:gdLst/>
              <a:ahLst/>
              <a:rect l="l" t="t" r="r" b="b"/>
              <a:pathLst>
                <a:path w="0" h="29">
                  <a:moveTo>
                    <a:pt x="0" y="0"/>
                  </a:moveTo>
                  <a:lnTo>
                    <a:pt x="0" y="14"/>
                  </a:lnTo>
                  <a:lnTo>
                    <a:pt x="0" y="29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92440" y="2814480"/>
              <a:ext cx="2196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14400" y="2948040"/>
              <a:ext cx="180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14400" y="3083040"/>
              <a:ext cx="180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44680" y="20779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98960" y="218916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54320" y="2322360"/>
              <a:ext cx="180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54320" y="245736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132000" y="259092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32000" y="272556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10040" y="285912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65400" y="29923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8880" y="1508040"/>
              <a:ext cx="83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 crash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09080" y="3063960"/>
              <a:ext cx="84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23440" y="3152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p, 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558280" y="183204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0" y="28"/>
                  </a:moveTo>
                  <a:lnTo>
                    <a:pt x="0" y="0"/>
                  </a:lnTo>
                  <a:lnTo>
                    <a:pt x="57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46840" y="1876320"/>
              <a:ext cx="258912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558280" y="225576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0" y="28"/>
                  </a:moveTo>
                  <a:lnTo>
                    <a:pt x="0" y="0"/>
                  </a:lnTo>
                  <a:lnTo>
                    <a:pt x="57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6840" y="2300400"/>
              <a:ext cx="25891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558280" y="26798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0" y="29"/>
                  </a:moveTo>
                  <a:lnTo>
                    <a:pt x="0" y="0"/>
                  </a:lnTo>
                  <a:lnTo>
                    <a:pt x="57" y="29"/>
                  </a:lnTo>
                  <a:lnTo>
                    <a:pt x="0" y="5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46840" y="2725560"/>
              <a:ext cx="258912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85920" y="17240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85920" y="2170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01760" y="26161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61080" y="1765440"/>
              <a:ext cx="200160" cy="222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661080" y="1765440"/>
              <a:ext cx="200160" cy="222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38920" y="2211480"/>
              <a:ext cx="88920" cy="6660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14" y="14"/>
                  </a:moveTo>
                  <a:lnTo>
                    <a:pt x="28" y="0"/>
                  </a:lnTo>
                  <a:lnTo>
                    <a:pt x="56" y="42"/>
                  </a:lnTo>
                  <a:lnTo>
                    <a:pt x="0" y="42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26280" y="1876320"/>
              <a:ext cx="512640" cy="357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85160" y="263520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28" y="14"/>
                  </a:moveTo>
                  <a:lnTo>
                    <a:pt x="42" y="0"/>
                  </a:lnTo>
                  <a:lnTo>
                    <a:pt x="56" y="57"/>
                  </a:lnTo>
                  <a:lnTo>
                    <a:pt x="0" y="42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6280" y="1876320"/>
              <a:ext cx="780840" cy="781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35560" y="15415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191280" y="1652760"/>
              <a:ext cx="22320" cy="457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168960" y="176544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146640" y="189864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124320" y="2033640"/>
              <a:ext cx="2196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02360" y="216684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0040" y="230040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58080" y="241308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035760" y="254628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35760" y="2679840"/>
              <a:ext cx="1440" cy="45720"/>
            </a:xfrm>
            <a:custGeom>
              <a:avLst/>
              <a:gdLst/>
              <a:ahLst/>
              <a:rect l="l" t="t" r="r" b="b"/>
              <a:pathLst>
                <a:path w="0" h="29">
                  <a:moveTo>
                    <a:pt x="0" y="0"/>
                  </a:moveTo>
                  <a:lnTo>
                    <a:pt x="0" y="14"/>
                  </a:lnTo>
                  <a:lnTo>
                    <a:pt x="0" y="29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35760" y="281448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58080" y="294804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58080" y="3083040"/>
              <a:ext cx="144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86560" y="20779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42280" y="218916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97640" y="2322360"/>
              <a:ext cx="180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97640" y="245736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75680" y="259092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75680" y="272556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331040" y="285912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08720" y="29923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27520" y="1508040"/>
              <a:ext cx="83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 crash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47720" y="3063960"/>
              <a:ext cx="84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62080" y="3152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p, 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5360" y="123984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 (allowed)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12000" y="123984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 (allowed)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61040" y="4443480"/>
              <a:ext cx="66600" cy="112680"/>
            </a:xfrm>
            <a:custGeom>
              <a:avLst/>
              <a:gdLst/>
              <a:ahLst/>
              <a:rect l="l" t="t" r="r" b="b"/>
              <a:pathLst>
                <a:path w="42" h="71">
                  <a:moveTo>
                    <a:pt x="0" y="29"/>
                  </a:moveTo>
                  <a:lnTo>
                    <a:pt x="0" y="0"/>
                  </a:lnTo>
                  <a:lnTo>
                    <a:pt x="42" y="29"/>
                  </a:lnTo>
                  <a:lnTo>
                    <a:pt x="0" y="7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47800" y="4489560"/>
              <a:ext cx="25909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61040" y="4890960"/>
              <a:ext cx="66600" cy="88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0" y="28"/>
                  </a:moveTo>
                  <a:lnTo>
                    <a:pt x="0" y="0"/>
                  </a:lnTo>
                  <a:lnTo>
                    <a:pt x="42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47800" y="4935600"/>
              <a:ext cx="25909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61040" y="5315040"/>
              <a:ext cx="66600" cy="88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0" y="28"/>
                  </a:moveTo>
                  <a:lnTo>
                    <a:pt x="0" y="0"/>
                  </a:lnTo>
                  <a:lnTo>
                    <a:pt x="42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47800" y="5359320"/>
              <a:ext cx="259092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85440" y="435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85440" y="4805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1280" y="52293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016000" y="4154400"/>
              <a:ext cx="2232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993680" y="4265640"/>
              <a:ext cx="2196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971720" y="439884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49400" y="453384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27080" y="4667400"/>
              <a:ext cx="180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05120" y="4778280"/>
              <a:ext cx="144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82800" y="491328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59040" y="504684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836720" y="518148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36720" y="531504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36720" y="544824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59040" y="558324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59040" y="5694480"/>
              <a:ext cx="144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61600" y="57862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p, 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02560" y="4443480"/>
              <a:ext cx="68400" cy="9036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0" y="29"/>
                  </a:moveTo>
                  <a:lnTo>
                    <a:pt x="0" y="0"/>
                  </a:lnTo>
                  <a:lnTo>
                    <a:pt x="43" y="29"/>
                  </a:lnTo>
                  <a:lnTo>
                    <a:pt x="0" y="5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69160" y="4489560"/>
              <a:ext cx="261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02560" y="4869000"/>
              <a:ext cx="68400" cy="110880"/>
            </a:xfrm>
            <a:custGeom>
              <a:avLst/>
              <a:gdLst/>
              <a:ahLst/>
              <a:rect l="l" t="t" r="r" b="b"/>
              <a:pathLst>
                <a:path w="43" h="70">
                  <a:moveTo>
                    <a:pt x="0" y="28"/>
                  </a:moveTo>
                  <a:lnTo>
                    <a:pt x="0" y="0"/>
                  </a:lnTo>
                  <a:lnTo>
                    <a:pt x="43" y="28"/>
                  </a:lnTo>
                  <a:lnTo>
                    <a:pt x="0" y="7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69160" y="4913280"/>
              <a:ext cx="26114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602560" y="5315040"/>
              <a:ext cx="68400" cy="88920"/>
            </a:xfrm>
            <a:custGeom>
              <a:avLst/>
              <a:gdLst/>
              <a:ahLst/>
              <a:rect l="l" t="t" r="r" b="b"/>
              <a:pathLst>
                <a:path w="43" h="56">
                  <a:moveTo>
                    <a:pt x="0" y="28"/>
                  </a:moveTo>
                  <a:lnTo>
                    <a:pt x="0" y="0"/>
                  </a:lnTo>
                  <a:lnTo>
                    <a:pt x="43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69160" y="5359320"/>
              <a:ext cx="26114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24080" y="435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24080" y="4782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41360" y="52293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05720" y="4376880"/>
              <a:ext cx="199800" cy="245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705360" y="4376880"/>
              <a:ext cx="199800" cy="2458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54760" y="4846680"/>
              <a:ext cx="111240" cy="8892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14" y="28"/>
                  </a:moveTo>
                  <a:lnTo>
                    <a:pt x="28" y="0"/>
                  </a:lnTo>
                  <a:lnTo>
                    <a:pt x="70" y="42"/>
                  </a:lnTo>
                  <a:lnTo>
                    <a:pt x="0" y="56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48240" y="4489560"/>
              <a:ext cx="1428840" cy="4014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29440" y="524844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28"/>
                  </a:moveTo>
                  <a:lnTo>
                    <a:pt x="42" y="0"/>
                  </a:lnTo>
                  <a:lnTo>
                    <a:pt x="56" y="56"/>
                  </a:lnTo>
                  <a:lnTo>
                    <a:pt x="0" y="42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92880" y="4489560"/>
              <a:ext cx="758880" cy="7808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257880" y="4154400"/>
              <a:ext cx="2376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235560" y="4265640"/>
              <a:ext cx="2232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3600" y="439884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91280" y="453384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68960" y="4645080"/>
              <a:ext cx="180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46640" y="4778280"/>
              <a:ext cx="180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24680" y="491328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02360" y="504684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80040" y="518148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80040" y="53150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80040" y="542592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80040" y="556092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02360" y="5694480"/>
              <a:ext cx="144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31200" y="4711680"/>
              <a:ext cx="144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464240" y="4800600"/>
              <a:ext cx="2196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42280" y="493560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419960" y="5068800"/>
              <a:ext cx="2232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19960" y="520380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19960" y="533700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375320" y="5470560"/>
              <a:ext cx="2196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53360" y="5605560"/>
              <a:ext cx="144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67120" y="4119480"/>
              <a:ext cx="83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 crash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87320" y="5675400"/>
              <a:ext cx="84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02040" y="576432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p, 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8840" y="387504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 (disallowed)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40440" y="3875040"/>
              <a:ext cx="123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 (disallowed)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84360" y="4398840"/>
              <a:ext cx="201600" cy="223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484360" y="4398840"/>
              <a:ext cx="201600" cy="223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22520" y="4869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14" y="0"/>
                  </a:lnTo>
                  <a:lnTo>
                    <a:pt x="56" y="42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49560" y="4511520"/>
              <a:ext cx="1272960" cy="379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67000" y="524844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14" y="28"/>
                  </a:moveTo>
                  <a:lnTo>
                    <a:pt x="28" y="0"/>
                  </a:lnTo>
                  <a:lnTo>
                    <a:pt x="56" y="56"/>
                  </a:lnTo>
                  <a:lnTo>
                    <a:pt x="0" y="56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49560" y="4511520"/>
              <a:ext cx="1117440" cy="7812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640" y="4711680"/>
              <a:ext cx="144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67000" y="4824360"/>
              <a:ext cx="180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22720" y="495792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22720" y="509112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98960" y="5226120"/>
              <a:ext cx="1440" cy="44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8960" y="5359320"/>
              <a:ext cx="1440" cy="446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154320" y="5492880"/>
              <a:ext cx="22320" cy="46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32000" y="5627520"/>
              <a:ext cx="180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52240" y="4143240"/>
              <a:ext cx="83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 crash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72440" y="5697360"/>
              <a:ext cx="842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view (q, r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passive (primary-backup) model for fault toleran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50960" y="1692360"/>
            <a:ext cx="8140680" cy="3539880"/>
            <a:chOff x="750960" y="1692360"/>
            <a:chExt cx="8140680" cy="3539880"/>
          </a:xfrm>
        </p:grpSpPr>
        <p:sp>
          <p:nvSpPr>
            <p:cNvPr id="346" name=""/>
            <p:cNvSpPr/>
            <p:nvPr/>
          </p:nvSpPr>
          <p:spPr>
            <a:xfrm>
              <a:off x="4608360" y="1692360"/>
              <a:ext cx="4283280" cy="3539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15960" y="23828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72600" y="236520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5880" y="1974960"/>
              <a:ext cx="1203120" cy="1168200"/>
            </a:xfrm>
            <a:prstGeom prst="ellipse">
              <a:avLst/>
            </a:prstGeom>
            <a:noFill/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81040" y="429408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37680" y="42418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960" y="3816360"/>
              <a:ext cx="1203120" cy="1203480"/>
            </a:xfrm>
            <a:prstGeom prst="ellipse">
              <a:avLst/>
            </a:prstGeom>
            <a:noFill/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04120" y="1798560"/>
              <a:ext cx="1203480" cy="1168560"/>
            </a:xfrm>
            <a:prstGeom prst="ellipse">
              <a:avLst/>
            </a:prstGeom>
            <a:solidFill>
              <a:srgbClr val="ffffff"/>
            </a:solidFill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01560" y="2241720"/>
              <a:ext cx="456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79600" y="1709640"/>
              <a:ext cx="1009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86160" y="4754520"/>
              <a:ext cx="977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Backu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27320" y="2984400"/>
              <a:ext cx="977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Backu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35520" y="2471760"/>
              <a:ext cx="177840" cy="104760"/>
            </a:xfrm>
            <a:custGeom>
              <a:avLst/>
              <a:gdLst/>
              <a:ahLst/>
              <a:rect l="l" t="t" r="r" b="b"/>
              <a:pathLst>
                <a:path w="112" h="66">
                  <a:moveTo>
                    <a:pt x="90" y="44"/>
                  </a:moveTo>
                  <a:lnTo>
                    <a:pt x="90" y="66"/>
                  </a:lnTo>
                  <a:lnTo>
                    <a:pt x="0" y="44"/>
                  </a:lnTo>
                  <a:lnTo>
                    <a:pt x="112" y="0"/>
                  </a:lnTo>
                  <a:lnTo>
                    <a:pt x="90" y="44"/>
                  </a:lnTo>
                  <a:close/>
                </a:path>
              </a:pathLst>
            </a:custGeom>
            <a:solidFill>
              <a:srgbClr val="000000"/>
            </a:solidFill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49840" y="2541600"/>
              <a:ext cx="177840" cy="71280"/>
            </a:xfrm>
            <a:custGeom>
              <a:avLst/>
              <a:gdLst/>
              <a:ahLst/>
              <a:rect l="l" t="t" r="r" b="b"/>
              <a:pathLst>
                <a:path w="112" h="45">
                  <a:moveTo>
                    <a:pt x="0" y="22"/>
                  </a:moveTo>
                  <a:lnTo>
                    <a:pt x="0" y="0"/>
                  </a:lnTo>
                  <a:lnTo>
                    <a:pt x="112" y="22"/>
                  </a:lnTo>
                  <a:lnTo>
                    <a:pt x="0" y="4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13360" y="2541600"/>
              <a:ext cx="601560" cy="3492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68760" y="4383000"/>
              <a:ext cx="141120" cy="10476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0" y="44"/>
                  </a:moveTo>
                  <a:lnTo>
                    <a:pt x="0" y="0"/>
                  </a:lnTo>
                  <a:lnTo>
                    <a:pt x="89" y="44"/>
                  </a:lnTo>
                  <a:lnTo>
                    <a:pt x="0" y="6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25720" y="4383000"/>
              <a:ext cx="141120" cy="10476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89" y="44"/>
                  </a:moveTo>
                  <a:lnTo>
                    <a:pt x="89" y="66"/>
                  </a:lnTo>
                  <a:lnTo>
                    <a:pt x="0" y="44"/>
                  </a:lnTo>
                  <a:lnTo>
                    <a:pt x="89" y="0"/>
                  </a:lnTo>
                  <a:lnTo>
                    <a:pt x="89" y="44"/>
                  </a:lnTo>
                  <a:close/>
                </a:path>
              </a:pathLst>
            </a:custGeom>
            <a:solidFill>
              <a:srgbClr val="000000"/>
            </a:solidFill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201400" y="4452840"/>
              <a:ext cx="530280" cy="180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03680" y="2471760"/>
              <a:ext cx="141120" cy="10476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0" y="44"/>
                  </a:moveTo>
                  <a:lnTo>
                    <a:pt x="0" y="0"/>
                  </a:lnTo>
                  <a:lnTo>
                    <a:pt x="89" y="44"/>
                  </a:lnTo>
                  <a:lnTo>
                    <a:pt x="0" y="6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60640" y="2471760"/>
              <a:ext cx="141120" cy="10476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89" y="44"/>
                  </a:moveTo>
                  <a:lnTo>
                    <a:pt x="89" y="66"/>
                  </a:lnTo>
                  <a:lnTo>
                    <a:pt x="0" y="44"/>
                  </a:lnTo>
                  <a:lnTo>
                    <a:pt x="89" y="0"/>
                  </a:lnTo>
                  <a:lnTo>
                    <a:pt x="89" y="44"/>
                  </a:lnTo>
                  <a:close/>
                </a:path>
              </a:pathLst>
            </a:custGeom>
            <a:solidFill>
              <a:srgbClr val="000000"/>
            </a:solidFill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36680" y="2541600"/>
              <a:ext cx="532080" cy="14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00600" y="4029120"/>
              <a:ext cx="141120" cy="1411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67" y="22"/>
                  </a:moveTo>
                  <a:lnTo>
                    <a:pt x="89" y="44"/>
                  </a:lnTo>
                  <a:lnTo>
                    <a:pt x="0" y="89"/>
                  </a:lnTo>
                  <a:lnTo>
                    <a:pt x="45" y="0"/>
                  </a:lnTo>
                  <a:lnTo>
                    <a:pt x="67" y="22"/>
                  </a:lnTo>
                  <a:close/>
                </a:path>
              </a:pathLst>
            </a:custGeom>
            <a:solidFill>
              <a:srgbClr val="000000"/>
            </a:solidFill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27680" y="3073320"/>
              <a:ext cx="176040" cy="141480"/>
            </a:xfrm>
            <a:custGeom>
              <a:avLst/>
              <a:gdLst/>
              <a:ahLst/>
              <a:rect l="l" t="t" r="r" b="b"/>
              <a:pathLst>
                <a:path w="111" h="89">
                  <a:moveTo>
                    <a:pt x="22" y="66"/>
                  </a:moveTo>
                  <a:lnTo>
                    <a:pt x="0" y="44"/>
                  </a:lnTo>
                  <a:lnTo>
                    <a:pt x="111" y="0"/>
                  </a:lnTo>
                  <a:lnTo>
                    <a:pt x="44" y="89"/>
                  </a:lnTo>
                  <a:lnTo>
                    <a:pt x="22" y="66"/>
                  </a:lnTo>
                  <a:close/>
                </a:path>
              </a:pathLst>
            </a:custGeom>
            <a:solidFill>
              <a:srgbClr val="000000"/>
            </a:solidFill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4041720" y="3177720"/>
              <a:ext cx="920880" cy="88596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11840" y="3178080"/>
              <a:ext cx="106200" cy="177840"/>
            </a:xfrm>
            <a:custGeom>
              <a:avLst/>
              <a:gdLst/>
              <a:ahLst/>
              <a:rect l="l" t="t" r="r" b="b"/>
              <a:pathLst>
                <a:path w="67" h="112">
                  <a:moveTo>
                    <a:pt x="45" y="112"/>
                  </a:moveTo>
                  <a:lnTo>
                    <a:pt x="22" y="112"/>
                  </a:lnTo>
                  <a:lnTo>
                    <a:pt x="0" y="0"/>
                  </a:lnTo>
                  <a:lnTo>
                    <a:pt x="67" y="90"/>
                  </a:lnTo>
                  <a:lnTo>
                    <a:pt x="45" y="112"/>
                  </a:lnTo>
                  <a:close/>
                </a:path>
              </a:pathLst>
            </a:custGeom>
            <a:solidFill>
              <a:srgbClr val="000000"/>
            </a:solidFill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89680" y="3710160"/>
              <a:ext cx="141120" cy="176040"/>
            </a:xfrm>
            <a:custGeom>
              <a:avLst/>
              <a:gdLst/>
              <a:ahLst/>
              <a:rect l="l" t="t" r="r" b="b"/>
              <a:pathLst>
                <a:path w="89" h="111">
                  <a:moveTo>
                    <a:pt x="44" y="0"/>
                  </a:moveTo>
                  <a:lnTo>
                    <a:pt x="66" y="0"/>
                  </a:lnTo>
                  <a:lnTo>
                    <a:pt x="89" y="111"/>
                  </a:lnTo>
                  <a:lnTo>
                    <a:pt x="0" y="2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83120" y="3355920"/>
              <a:ext cx="141480" cy="35424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56440" y="2400480"/>
              <a:ext cx="177840" cy="106200"/>
            </a:xfrm>
            <a:custGeom>
              <a:avLst/>
              <a:gdLst/>
              <a:ahLst/>
              <a:rect l="l" t="t" r="r" b="b"/>
              <a:pathLst>
                <a:path w="112" h="67">
                  <a:moveTo>
                    <a:pt x="23" y="22"/>
                  </a:moveTo>
                  <a:lnTo>
                    <a:pt x="0" y="0"/>
                  </a:lnTo>
                  <a:lnTo>
                    <a:pt x="112" y="22"/>
                  </a:lnTo>
                  <a:lnTo>
                    <a:pt x="23" y="67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000000"/>
            </a:solidFill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72280" y="2471760"/>
              <a:ext cx="176040" cy="69840"/>
            </a:xfrm>
            <a:custGeom>
              <a:avLst/>
              <a:gdLst/>
              <a:ahLst/>
              <a:rect l="l" t="t" r="r" b="b"/>
              <a:pathLst>
                <a:path w="111" h="44">
                  <a:moveTo>
                    <a:pt x="89" y="22"/>
                  </a:moveTo>
                  <a:lnTo>
                    <a:pt x="111" y="44"/>
                  </a:lnTo>
                  <a:lnTo>
                    <a:pt x="0" y="22"/>
                  </a:lnTo>
                  <a:lnTo>
                    <a:pt x="89" y="0"/>
                  </a:lnTo>
                  <a:lnTo>
                    <a:pt x="89" y="22"/>
                  </a:lnTo>
                  <a:close/>
                </a:path>
              </a:pathLst>
            </a:custGeom>
            <a:solidFill>
              <a:srgbClr val="000000"/>
            </a:solidFill>
            <a:ln w="52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447960" y="2435400"/>
              <a:ext cx="708120" cy="71280"/>
            </a:xfrm>
            <a:prstGeom prst="line">
              <a:avLst/>
            </a:prstGeom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16080" y="4064040"/>
              <a:ext cx="849600" cy="814320"/>
            </a:xfrm>
            <a:prstGeom prst="rect">
              <a:avLst/>
            </a:prstGeom>
            <a:noFill/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51000" y="2152800"/>
              <a:ext cx="849600" cy="849240"/>
            </a:xfrm>
            <a:prstGeom prst="rect">
              <a:avLst/>
            </a:prstGeom>
            <a:noFill/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97520" y="2046240"/>
              <a:ext cx="1203120" cy="1168560"/>
            </a:xfrm>
            <a:prstGeom prst="ellipse">
              <a:avLst/>
            </a:prstGeom>
            <a:solidFill>
              <a:srgbClr val="ffffff"/>
            </a:solidFill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50320" y="2454120"/>
              <a:ext cx="456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76920" y="3886200"/>
              <a:ext cx="1203480" cy="1168560"/>
            </a:xfrm>
            <a:prstGeom prst="ellipse">
              <a:avLst/>
            </a:prstGeom>
            <a:solidFill>
              <a:srgbClr val="ffffff"/>
            </a:solidFill>
            <a:ln w="52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55280" y="4329000"/>
              <a:ext cx="456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tive repli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44680" y="1655640"/>
            <a:ext cx="8664480" cy="3513240"/>
            <a:chOff x="544680" y="1655640"/>
            <a:chExt cx="8664480" cy="3513240"/>
          </a:xfrm>
        </p:grpSpPr>
        <p:sp>
          <p:nvSpPr>
            <p:cNvPr id="384" name=""/>
            <p:cNvSpPr/>
            <p:nvPr/>
          </p:nvSpPr>
          <p:spPr>
            <a:xfrm>
              <a:off x="3676680" y="1655640"/>
              <a:ext cx="2430360" cy="3513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91360" y="327960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610480" y="3279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13760" y="2943360"/>
              <a:ext cx="995400" cy="966600"/>
            </a:xfrm>
            <a:prstGeom prst="ellipse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13520" y="3089160"/>
              <a:ext cx="703440" cy="70344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048000" y="3411360"/>
              <a:ext cx="96516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16960" y="3382920"/>
              <a:ext cx="145800" cy="87480"/>
            </a:xfrm>
            <a:custGeom>
              <a:avLst/>
              <a:gdLst/>
              <a:ahLst/>
              <a:rect l="l" t="t" r="r" b="b"/>
              <a:pathLst>
                <a:path w="92" h="55">
                  <a:moveTo>
                    <a:pt x="92" y="18"/>
                  </a:moveTo>
                  <a:lnTo>
                    <a:pt x="92" y="55"/>
                  </a:lnTo>
                  <a:lnTo>
                    <a:pt x="0" y="18"/>
                  </a:lnTo>
                  <a:lnTo>
                    <a:pt x="92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096400" y="3382920"/>
              <a:ext cx="147600" cy="8748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0" y="18"/>
                  </a:moveTo>
                  <a:lnTo>
                    <a:pt x="0" y="0"/>
                  </a:lnTo>
                  <a:lnTo>
                    <a:pt x="93" y="18"/>
                  </a:lnTo>
                  <a:lnTo>
                    <a:pt x="0" y="5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91560" y="3411360"/>
              <a:ext cx="20484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57800" y="2592360"/>
              <a:ext cx="117360" cy="14616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55" y="55"/>
                  </a:moveTo>
                  <a:lnTo>
                    <a:pt x="18" y="92"/>
                  </a:lnTo>
                  <a:lnTo>
                    <a:pt x="0" y="0"/>
                  </a:lnTo>
                  <a:lnTo>
                    <a:pt x="74" y="37"/>
                  </a:lnTo>
                  <a:lnTo>
                    <a:pt x="55" y="55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5344920" y="2709360"/>
              <a:ext cx="703080" cy="7318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75160" y="3352680"/>
              <a:ext cx="87480" cy="14760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55" y="56"/>
                  </a:moveTo>
                  <a:lnTo>
                    <a:pt x="55" y="93"/>
                  </a:lnTo>
                  <a:lnTo>
                    <a:pt x="0" y="56"/>
                  </a:lnTo>
                  <a:lnTo>
                    <a:pt x="55" y="0"/>
                  </a:lnTo>
                  <a:lnTo>
                    <a:pt x="55" y="56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5491080" y="3441600"/>
              <a:ext cx="55728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29360" y="4084560"/>
              <a:ext cx="115920" cy="11772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55" y="19"/>
                  </a:moveTo>
                  <a:lnTo>
                    <a:pt x="73" y="56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316120" y="3441600"/>
              <a:ext cx="731880" cy="6732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67360" y="2973240"/>
              <a:ext cx="117720" cy="115920"/>
            </a:xfrm>
            <a:custGeom>
              <a:avLst/>
              <a:gdLst/>
              <a:ahLst/>
              <a:rect l="l" t="t" r="r" b="b"/>
              <a:pathLst>
                <a:path w="74" h="73">
                  <a:moveTo>
                    <a:pt x="19" y="37"/>
                  </a:moveTo>
                  <a:lnTo>
                    <a:pt x="37" y="0"/>
                  </a:lnTo>
                  <a:lnTo>
                    <a:pt x="74" y="55"/>
                  </a:lnTo>
                  <a:lnTo>
                    <a:pt x="0" y="73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75160" y="2387520"/>
              <a:ext cx="1492200" cy="6447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67360" y="3733920"/>
              <a:ext cx="11772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19" y="37"/>
                  </a:moveTo>
                  <a:lnTo>
                    <a:pt x="0" y="0"/>
                  </a:lnTo>
                  <a:lnTo>
                    <a:pt x="74" y="19"/>
                  </a:lnTo>
                  <a:lnTo>
                    <a:pt x="19" y="74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316480" y="3820680"/>
              <a:ext cx="1550880" cy="58572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67360" y="3206880"/>
              <a:ext cx="11772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0" y="37"/>
                  </a:moveTo>
                  <a:lnTo>
                    <a:pt x="0" y="0"/>
                  </a:lnTo>
                  <a:lnTo>
                    <a:pt x="74" y="37"/>
                  </a:lnTo>
                  <a:lnTo>
                    <a:pt x="0" y="74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45280" y="3265560"/>
              <a:ext cx="152208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41360" y="327960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23760" y="3279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4680" y="2943360"/>
              <a:ext cx="995040" cy="966600"/>
            </a:xfrm>
            <a:prstGeom prst="ellipse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79760" y="2943360"/>
              <a:ext cx="995400" cy="96660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67760" y="3279600"/>
              <a:ext cx="37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66760" y="3089160"/>
              <a:ext cx="703440" cy="70344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79760" y="1801800"/>
              <a:ext cx="995400" cy="96696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67760" y="2109960"/>
              <a:ext cx="37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79760" y="4114800"/>
              <a:ext cx="995400" cy="96516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67760" y="4451400"/>
              <a:ext cx="375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39960" y="3411360"/>
              <a:ext cx="96696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92160" y="3382920"/>
              <a:ext cx="146160" cy="87480"/>
            </a:xfrm>
            <a:custGeom>
              <a:avLst/>
              <a:gdLst/>
              <a:ahLst/>
              <a:rect l="l" t="t" r="r" b="b"/>
              <a:pathLst>
                <a:path w="92" h="55">
                  <a:moveTo>
                    <a:pt x="0" y="18"/>
                  </a:moveTo>
                  <a:lnTo>
                    <a:pt x="0" y="0"/>
                  </a:lnTo>
                  <a:lnTo>
                    <a:pt x="92" y="18"/>
                  </a:lnTo>
                  <a:lnTo>
                    <a:pt x="0" y="55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11280" y="3382920"/>
              <a:ext cx="146160" cy="87480"/>
            </a:xfrm>
            <a:custGeom>
              <a:avLst/>
              <a:gdLst/>
              <a:ahLst/>
              <a:rect l="l" t="t" r="r" b="b"/>
              <a:pathLst>
                <a:path w="92" h="55">
                  <a:moveTo>
                    <a:pt x="92" y="18"/>
                  </a:moveTo>
                  <a:lnTo>
                    <a:pt x="92" y="55"/>
                  </a:lnTo>
                  <a:lnTo>
                    <a:pt x="0" y="18"/>
                  </a:lnTo>
                  <a:lnTo>
                    <a:pt x="92" y="0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657080" y="3411360"/>
              <a:ext cx="20484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79760" y="2592360"/>
              <a:ext cx="117720" cy="14616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18" y="55"/>
                  </a:moveTo>
                  <a:lnTo>
                    <a:pt x="0" y="37"/>
                  </a:lnTo>
                  <a:lnTo>
                    <a:pt x="74" y="0"/>
                  </a:lnTo>
                  <a:lnTo>
                    <a:pt x="55" y="92"/>
                  </a:lnTo>
                  <a:lnTo>
                    <a:pt x="18" y="55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3706920" y="2709360"/>
              <a:ext cx="701640" cy="7318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92640" y="3352680"/>
              <a:ext cx="115920" cy="147600"/>
            </a:xfrm>
            <a:custGeom>
              <a:avLst/>
              <a:gdLst/>
              <a:ahLst/>
              <a:rect l="l" t="t" r="r" b="b"/>
              <a:pathLst>
                <a:path w="73" h="93">
                  <a:moveTo>
                    <a:pt x="0" y="56"/>
                  </a:moveTo>
                  <a:lnTo>
                    <a:pt x="0" y="0"/>
                  </a:lnTo>
                  <a:lnTo>
                    <a:pt x="73" y="56"/>
                  </a:lnTo>
                  <a:lnTo>
                    <a:pt x="0" y="9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35360" y="3441600"/>
              <a:ext cx="52704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08560" y="4084560"/>
              <a:ext cx="117360" cy="11772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19" y="19"/>
                  </a:moveTo>
                  <a:lnTo>
                    <a:pt x="56" y="0"/>
                  </a:lnTo>
                  <a:lnTo>
                    <a:pt x="74" y="74"/>
                  </a:lnTo>
                  <a:lnTo>
                    <a:pt x="0" y="56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06920" y="3441600"/>
              <a:ext cx="731880" cy="6732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70200" y="297324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55" y="37"/>
                  </a:moveTo>
                  <a:lnTo>
                    <a:pt x="73" y="73"/>
                  </a:lnTo>
                  <a:lnTo>
                    <a:pt x="0" y="55"/>
                  </a:lnTo>
                  <a:lnTo>
                    <a:pt x="37" y="0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2885760" y="2387520"/>
              <a:ext cx="1493640" cy="6447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70200" y="3733920"/>
              <a:ext cx="11592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55" y="37"/>
                  </a:moveTo>
                  <a:lnTo>
                    <a:pt x="55" y="74"/>
                  </a:lnTo>
                  <a:lnTo>
                    <a:pt x="0" y="19"/>
                  </a:lnTo>
                  <a:lnTo>
                    <a:pt x="73" y="0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2885760" y="3820680"/>
              <a:ext cx="1552680" cy="58572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70200" y="3206880"/>
              <a:ext cx="11592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73" y="37"/>
                  </a:moveTo>
                  <a:lnTo>
                    <a:pt x="73" y="74"/>
                  </a:lnTo>
                  <a:lnTo>
                    <a:pt x="0" y="37"/>
                  </a:lnTo>
                  <a:lnTo>
                    <a:pt x="73" y="0"/>
                  </a:lnTo>
                  <a:lnTo>
                    <a:pt x="73" y="37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2885760" y="3265560"/>
              <a:ext cx="155268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uery and update operations in a gossip servi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272680" y="1227240"/>
            <a:ext cx="5536800" cy="4968720"/>
            <a:chOff x="2272680" y="1227240"/>
            <a:chExt cx="5536800" cy="4968720"/>
          </a:xfrm>
        </p:grpSpPr>
        <p:sp>
          <p:nvSpPr>
            <p:cNvPr id="433" name=""/>
            <p:cNvSpPr/>
            <p:nvPr/>
          </p:nvSpPr>
          <p:spPr>
            <a:xfrm>
              <a:off x="2860560" y="3978360"/>
              <a:ext cx="1516320" cy="22176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08600" y="3949560"/>
              <a:ext cx="1515960" cy="2217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07160" y="3838680"/>
              <a:ext cx="55440" cy="13968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17" y="0"/>
                  </a:moveTo>
                  <a:lnTo>
                    <a:pt x="35" y="0"/>
                  </a:lnTo>
                  <a:lnTo>
                    <a:pt x="17" y="88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34160" y="3416400"/>
              <a:ext cx="1440" cy="3934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59120" y="3809880"/>
              <a:ext cx="55800" cy="13968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18" y="0"/>
                  </a:moveTo>
                  <a:lnTo>
                    <a:pt x="35" y="0"/>
                  </a:lnTo>
                  <a:lnTo>
                    <a:pt x="18" y="8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87920" y="3416400"/>
              <a:ext cx="1440" cy="3934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39040" y="4651200"/>
              <a:ext cx="55440" cy="14148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17" y="89"/>
                  </a:moveTo>
                  <a:lnTo>
                    <a:pt x="0" y="89"/>
                  </a:lnTo>
                  <a:lnTo>
                    <a:pt x="17" y="0"/>
                  </a:lnTo>
                  <a:lnTo>
                    <a:pt x="35" y="89"/>
                  </a:lnTo>
                  <a:lnTo>
                    <a:pt x="17" y="89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6566040" y="4792320"/>
              <a:ext cx="1440" cy="3366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22520" y="4624560"/>
              <a:ext cx="55800" cy="13968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17" y="88"/>
                  </a:moveTo>
                  <a:lnTo>
                    <a:pt x="0" y="88"/>
                  </a:lnTo>
                  <a:lnTo>
                    <a:pt x="17" y="0"/>
                  </a:lnTo>
                  <a:lnTo>
                    <a:pt x="35" y="88"/>
                  </a:lnTo>
                  <a:lnTo>
                    <a:pt x="17" y="88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449520" y="4792320"/>
              <a:ext cx="1800" cy="3920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30680" y="4960800"/>
              <a:ext cx="57240" cy="139680"/>
            </a:xfrm>
            <a:custGeom>
              <a:avLst/>
              <a:gdLst/>
              <a:ahLst/>
              <a:rect l="l" t="t" r="r" b="b"/>
              <a:pathLst>
                <a:path w="36" h="88">
                  <a:moveTo>
                    <a:pt x="18" y="0"/>
                  </a:moveTo>
                  <a:lnTo>
                    <a:pt x="36" y="0"/>
                  </a:lnTo>
                  <a:lnTo>
                    <a:pt x="18" y="8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59120" y="4567320"/>
              <a:ext cx="1800" cy="3934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03680" y="483228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13200" y="483228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47880" y="1508040"/>
              <a:ext cx="4687920" cy="19083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38640" y="4006800"/>
              <a:ext cx="58896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38640" y="4006800"/>
              <a:ext cx="617400" cy="58896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70160" y="5129280"/>
              <a:ext cx="925560" cy="925560"/>
            </a:xfrm>
            <a:prstGeom prst="ellipse">
              <a:avLst/>
            </a:prstGeom>
            <a:solidFill>
              <a:srgbClr val="ffffff"/>
            </a:solidFill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90200" y="41450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70160" y="2462040"/>
              <a:ext cx="954000" cy="927360"/>
            </a:xfrm>
            <a:prstGeom prst="ellipse">
              <a:avLst/>
            </a:prstGeom>
            <a:solidFill>
              <a:srgbClr val="ffffff"/>
            </a:solidFill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49520" y="278136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89760" y="2435400"/>
              <a:ext cx="954000" cy="925200"/>
            </a:xfrm>
            <a:prstGeom prst="ellipse">
              <a:avLst/>
            </a:prstGeom>
            <a:solidFill>
              <a:srgbClr val="ffffff"/>
            </a:solidFill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83160" y="275256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29240" y="1620720"/>
              <a:ext cx="898560" cy="925560"/>
            </a:xfrm>
            <a:prstGeom prst="ellipse">
              <a:avLst/>
            </a:prstGeom>
            <a:solidFill>
              <a:srgbClr val="ffffff"/>
            </a:solidFill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81600" y="193824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2680" y="3625920"/>
              <a:ext cx="75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60640" y="36259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12840" y="36259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62840" y="3625920"/>
              <a:ext cx="41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58560" y="4832280"/>
              <a:ext cx="73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57880" y="4006800"/>
              <a:ext cx="61776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57880" y="4006800"/>
              <a:ext cx="644400" cy="58896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116760" y="5129280"/>
              <a:ext cx="898560" cy="925560"/>
            </a:xfrm>
            <a:prstGeom prst="ellipse">
              <a:avLst/>
            </a:prstGeom>
            <a:solidFill>
              <a:srgbClr val="ffffff"/>
            </a:solidFill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38240" y="41450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78520" y="3625920"/>
              <a:ext cx="86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dat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78440" y="36259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33520" y="3625920"/>
              <a:ext cx="9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date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754880" y="1227240"/>
              <a:ext cx="76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2520" y="3473280"/>
              <a:ext cx="55800" cy="14004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17" y="88"/>
                  </a:moveTo>
                  <a:lnTo>
                    <a:pt x="0" y="88"/>
                  </a:lnTo>
                  <a:lnTo>
                    <a:pt x="17" y="0"/>
                  </a:lnTo>
                  <a:lnTo>
                    <a:pt x="35" y="88"/>
                  </a:lnTo>
                  <a:lnTo>
                    <a:pt x="17" y="88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449520" y="3641760"/>
              <a:ext cx="1800" cy="3650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69120" y="3473280"/>
              <a:ext cx="57240" cy="140040"/>
            </a:xfrm>
            <a:custGeom>
              <a:avLst/>
              <a:gdLst/>
              <a:ahLst/>
              <a:rect l="l" t="t" r="r" b="b"/>
              <a:pathLst>
                <a:path w="36" h="88">
                  <a:moveTo>
                    <a:pt x="18" y="88"/>
                  </a:moveTo>
                  <a:lnTo>
                    <a:pt x="0" y="88"/>
                  </a:lnTo>
                  <a:lnTo>
                    <a:pt x="18" y="0"/>
                  </a:lnTo>
                  <a:lnTo>
                    <a:pt x="36" y="88"/>
                  </a:lnTo>
                  <a:lnTo>
                    <a:pt x="18" y="88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6397560" y="3641760"/>
              <a:ext cx="1800" cy="3650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39120" y="51944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3983040" y="5325840"/>
              <a:ext cx="814320" cy="223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5667480" y="5353200"/>
              <a:ext cx="590400" cy="196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24160" y="2546280"/>
              <a:ext cx="140040" cy="84240"/>
            </a:xfrm>
            <a:custGeom>
              <a:avLst/>
              <a:gdLst/>
              <a:ahLst/>
              <a:rect l="l" t="t" r="r" b="b"/>
              <a:pathLst>
                <a:path w="88" h="53">
                  <a:moveTo>
                    <a:pt x="71" y="36"/>
                  </a:moveTo>
                  <a:lnTo>
                    <a:pt x="88" y="53"/>
                  </a:lnTo>
                  <a:lnTo>
                    <a:pt x="0" y="53"/>
                  </a:lnTo>
                  <a:lnTo>
                    <a:pt x="71" y="0"/>
                  </a:lnTo>
                  <a:lnTo>
                    <a:pt x="71" y="36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89560" y="2462040"/>
              <a:ext cx="139680" cy="84240"/>
            </a:xfrm>
            <a:custGeom>
              <a:avLst/>
              <a:gdLst/>
              <a:ahLst/>
              <a:rect l="l" t="t" r="r" b="b"/>
              <a:pathLst>
                <a:path w="88" h="53">
                  <a:moveTo>
                    <a:pt x="0" y="18"/>
                  </a:moveTo>
                  <a:lnTo>
                    <a:pt x="0" y="0"/>
                  </a:lnTo>
                  <a:lnTo>
                    <a:pt x="88" y="0"/>
                  </a:lnTo>
                  <a:lnTo>
                    <a:pt x="17" y="5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264200" y="2518920"/>
              <a:ext cx="225360" cy="55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37200" y="2911320"/>
              <a:ext cx="110880" cy="8424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70" y="18"/>
                  </a:moveTo>
                  <a:lnTo>
                    <a:pt x="70" y="53"/>
                  </a:lnTo>
                  <a:lnTo>
                    <a:pt x="0" y="18"/>
                  </a:lnTo>
                  <a:lnTo>
                    <a:pt x="70" y="0"/>
                  </a:lnTo>
                  <a:lnTo>
                    <a:pt x="70" y="18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35600" y="2911320"/>
              <a:ext cx="141480" cy="84240"/>
            </a:xfrm>
            <a:custGeom>
              <a:avLst/>
              <a:gdLst/>
              <a:ahLst/>
              <a:rect l="l" t="t" r="r" b="b"/>
              <a:pathLst>
                <a:path w="89" h="53">
                  <a:moveTo>
                    <a:pt x="0" y="18"/>
                  </a:moveTo>
                  <a:lnTo>
                    <a:pt x="0" y="0"/>
                  </a:lnTo>
                  <a:lnTo>
                    <a:pt x="89" y="18"/>
                  </a:lnTo>
                  <a:lnTo>
                    <a:pt x="0" y="5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76880" y="2940120"/>
              <a:ext cx="143172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472000" y="2406600"/>
              <a:ext cx="139680" cy="84240"/>
            </a:xfrm>
            <a:custGeom>
              <a:avLst/>
              <a:gdLst/>
              <a:ahLst/>
              <a:rect l="l" t="t" r="r" b="b"/>
              <a:pathLst>
                <a:path w="88" h="53">
                  <a:moveTo>
                    <a:pt x="88" y="35"/>
                  </a:moveTo>
                  <a:lnTo>
                    <a:pt x="70" y="53"/>
                  </a:lnTo>
                  <a:lnTo>
                    <a:pt x="0" y="0"/>
                  </a:lnTo>
                  <a:lnTo>
                    <a:pt x="88" y="0"/>
                  </a:lnTo>
                  <a:lnTo>
                    <a:pt x="88" y="35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8280" y="2575080"/>
              <a:ext cx="141480" cy="112680"/>
            </a:xfrm>
            <a:custGeom>
              <a:avLst/>
              <a:gdLst/>
              <a:ahLst/>
              <a:rect l="l" t="t" r="r" b="b"/>
              <a:pathLst>
                <a:path w="89" h="71">
                  <a:moveTo>
                    <a:pt x="18" y="35"/>
                  </a:moveTo>
                  <a:lnTo>
                    <a:pt x="18" y="0"/>
                  </a:lnTo>
                  <a:lnTo>
                    <a:pt x="89" y="71"/>
                  </a:lnTo>
                  <a:lnTo>
                    <a:pt x="0" y="53"/>
                  </a:lnTo>
                  <a:lnTo>
                    <a:pt x="18" y="35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11680" y="2462040"/>
              <a:ext cx="336600" cy="1414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99440" y="2608200"/>
              <a:ext cx="659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ss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7</a:t>
            </a:r>
            <a:br>
              <a:rPr sz="20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ront ends propagate their timestamps whenever clients communicate directly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654280" y="1309680"/>
            <a:ext cx="4540320" cy="4822920"/>
            <a:chOff x="2654280" y="1309680"/>
            <a:chExt cx="4540320" cy="4822920"/>
          </a:xfrm>
        </p:grpSpPr>
        <p:sp>
          <p:nvSpPr>
            <p:cNvPr id="490" name=""/>
            <p:cNvSpPr/>
            <p:nvPr/>
          </p:nvSpPr>
          <p:spPr>
            <a:xfrm>
              <a:off x="2790720" y="3984480"/>
              <a:ext cx="1467000" cy="2148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62440" y="3984480"/>
              <a:ext cx="1468440" cy="2148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54280" y="1619280"/>
              <a:ext cx="4540320" cy="1849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33600" y="4637160"/>
              <a:ext cx="54000" cy="13644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17" y="86"/>
                  </a:moveTo>
                  <a:lnTo>
                    <a:pt x="0" y="86"/>
                  </a:lnTo>
                  <a:lnTo>
                    <a:pt x="17" y="0"/>
                  </a:lnTo>
                  <a:lnTo>
                    <a:pt x="34" y="86"/>
                  </a:lnTo>
                  <a:lnTo>
                    <a:pt x="17" y="86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360600" y="4773240"/>
              <a:ext cx="1800" cy="406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33840" y="49626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17" y="0"/>
                  </a:moveTo>
                  <a:lnTo>
                    <a:pt x="34" y="0"/>
                  </a:lnTo>
                  <a:lnTo>
                    <a:pt x="17" y="69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60840" y="4583160"/>
              <a:ext cx="1440" cy="352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52960" y="4038480"/>
              <a:ext cx="56988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52960" y="4038480"/>
              <a:ext cx="598320" cy="57168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89160" y="5126040"/>
              <a:ext cx="897120" cy="896760"/>
            </a:xfrm>
            <a:prstGeom prst="ellipse">
              <a:avLst/>
            </a:pr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01280" y="41720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51920" y="518796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80040" y="4038480"/>
              <a:ext cx="598680" cy="54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80040" y="4038480"/>
              <a:ext cx="625680" cy="57168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43600" y="5126040"/>
              <a:ext cx="870120" cy="896760"/>
            </a:xfrm>
            <a:prstGeom prst="ellipse">
              <a:avLst/>
            </a:pr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55720" y="41720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822840" y="5316480"/>
              <a:ext cx="788760" cy="217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5454720" y="5343120"/>
              <a:ext cx="598320" cy="190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97920" y="1309680"/>
              <a:ext cx="76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33600" y="3522600"/>
              <a:ext cx="54000" cy="13644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17" y="86"/>
                  </a:moveTo>
                  <a:lnTo>
                    <a:pt x="0" y="86"/>
                  </a:lnTo>
                  <a:lnTo>
                    <a:pt x="17" y="0"/>
                  </a:lnTo>
                  <a:lnTo>
                    <a:pt x="34" y="86"/>
                  </a:lnTo>
                  <a:lnTo>
                    <a:pt x="17" y="86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3360600" y="3659040"/>
              <a:ext cx="1800" cy="379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60840" y="384804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17" y="0"/>
                  </a:moveTo>
                  <a:lnTo>
                    <a:pt x="34" y="0"/>
                  </a:lnTo>
                  <a:lnTo>
                    <a:pt x="17" y="69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87840" y="3468600"/>
              <a:ext cx="1440" cy="352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88040" y="352260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17" y="68"/>
                  </a:moveTo>
                  <a:lnTo>
                    <a:pt x="0" y="68"/>
                  </a:lnTo>
                  <a:lnTo>
                    <a:pt x="17" y="0"/>
                  </a:lnTo>
                  <a:lnTo>
                    <a:pt x="35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6215040" y="3659040"/>
              <a:ext cx="1440" cy="379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15280" y="3848040"/>
              <a:ext cx="53640" cy="13644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17" y="0"/>
                  </a:moveTo>
                  <a:lnTo>
                    <a:pt x="34" y="0"/>
                  </a:lnTo>
                  <a:lnTo>
                    <a:pt x="17" y="86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41920" y="3468600"/>
              <a:ext cx="1800" cy="379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89600" y="4255920"/>
              <a:ext cx="13644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0" y="34"/>
                  </a:moveTo>
                  <a:lnTo>
                    <a:pt x="0" y="0"/>
                  </a:lnTo>
                  <a:lnTo>
                    <a:pt x="86" y="34"/>
                  </a:lnTo>
                  <a:lnTo>
                    <a:pt x="0" y="5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78280" y="4255920"/>
              <a:ext cx="135000" cy="828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85" y="34"/>
                  </a:moveTo>
                  <a:lnTo>
                    <a:pt x="85" y="52"/>
                  </a:lnTo>
                  <a:lnTo>
                    <a:pt x="0" y="34"/>
                  </a:lnTo>
                  <a:lnTo>
                    <a:pt x="85" y="0"/>
                  </a:lnTo>
                  <a:lnTo>
                    <a:pt x="85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4013280" y="4309920"/>
              <a:ext cx="187632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78200" y="4035600"/>
              <a:ext cx="66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79760" y="4308480"/>
              <a:ext cx="116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stam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88040" y="463716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17" y="68"/>
                  </a:moveTo>
                  <a:lnTo>
                    <a:pt x="0" y="68"/>
                  </a:lnTo>
                  <a:lnTo>
                    <a:pt x="17" y="0"/>
                  </a:lnTo>
                  <a:lnTo>
                    <a:pt x="35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215040" y="4773600"/>
              <a:ext cx="1440" cy="379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15280" y="4962600"/>
              <a:ext cx="53640" cy="13644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17" y="0"/>
                  </a:moveTo>
                  <a:lnTo>
                    <a:pt x="34" y="0"/>
                  </a:lnTo>
                  <a:lnTo>
                    <a:pt x="17" y="86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1920" y="4583160"/>
              <a:ext cx="1800" cy="379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62160" y="2489040"/>
              <a:ext cx="924120" cy="897120"/>
            </a:xfrm>
            <a:prstGeom prst="ellipse">
              <a:avLst/>
            </a:pr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11640" y="277812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89600" y="2462040"/>
              <a:ext cx="924120" cy="897120"/>
            </a:xfrm>
            <a:prstGeom prst="ellipse">
              <a:avLst/>
            </a:pr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53120" y="275112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75160" y="1673280"/>
              <a:ext cx="870120" cy="898560"/>
            </a:xfrm>
            <a:prstGeom prst="ellipse">
              <a:avLst/>
            </a:pr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97280" y="196200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86280" y="259884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69" y="17"/>
                  </a:moveTo>
                  <a:lnTo>
                    <a:pt x="86" y="34"/>
                  </a:lnTo>
                  <a:lnTo>
                    <a:pt x="0" y="51"/>
                  </a:lnTo>
                  <a:lnTo>
                    <a:pt x="69" y="0"/>
                  </a:lnTo>
                  <a:lnTo>
                    <a:pt x="69" y="17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40160" y="2489040"/>
              <a:ext cx="135000" cy="828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34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17" y="5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4122720" y="2543040"/>
              <a:ext cx="217440" cy="82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68720" y="2924280"/>
              <a:ext cx="135000" cy="8244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85" y="17"/>
                  </a:moveTo>
                  <a:lnTo>
                    <a:pt x="85" y="52"/>
                  </a:lnTo>
                  <a:lnTo>
                    <a:pt x="0" y="17"/>
                  </a:lnTo>
                  <a:lnTo>
                    <a:pt x="85" y="0"/>
                  </a:lnTo>
                  <a:lnTo>
                    <a:pt x="85" y="17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45160" y="2924280"/>
              <a:ext cx="135000" cy="8244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17"/>
                  </a:moveTo>
                  <a:lnTo>
                    <a:pt x="0" y="0"/>
                  </a:lnTo>
                  <a:lnTo>
                    <a:pt x="85" y="17"/>
                  </a:lnTo>
                  <a:lnTo>
                    <a:pt x="0" y="5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30720" y="2951280"/>
              <a:ext cx="138744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91280" y="2435400"/>
              <a:ext cx="136440" cy="8064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69" y="34"/>
                  </a:moveTo>
                  <a:lnTo>
                    <a:pt x="69" y="51"/>
                  </a:lnTo>
                  <a:lnTo>
                    <a:pt x="0" y="0"/>
                  </a:lnTo>
                  <a:lnTo>
                    <a:pt x="86" y="17"/>
                  </a:lnTo>
                  <a:lnTo>
                    <a:pt x="69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53160" y="2625840"/>
              <a:ext cx="136440" cy="81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17" y="17"/>
                  </a:moveTo>
                  <a:lnTo>
                    <a:pt x="17" y="0"/>
                  </a:lnTo>
                  <a:lnTo>
                    <a:pt x="86" y="51"/>
                  </a:lnTo>
                  <a:lnTo>
                    <a:pt x="0" y="34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27720" y="2489040"/>
              <a:ext cx="325440" cy="163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540680" y="2630520"/>
              <a:ext cx="659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ss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4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gossip replica manager, showing its main state componen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905760" y="1200240"/>
            <a:ext cx="7712280" cy="5049720"/>
            <a:chOff x="905760" y="1200240"/>
            <a:chExt cx="7712280" cy="5049720"/>
          </a:xfrm>
        </p:grpSpPr>
        <p:sp>
          <p:nvSpPr>
            <p:cNvPr id="544" name=""/>
            <p:cNvSpPr/>
            <p:nvPr/>
          </p:nvSpPr>
          <p:spPr>
            <a:xfrm>
              <a:off x="3181320" y="5243400"/>
              <a:ext cx="3672000" cy="6159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3444840" y="1357200"/>
              <a:ext cx="3333960" cy="906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91000" y="5586480"/>
              <a:ext cx="17316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11760" y="5635800"/>
              <a:ext cx="19548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54840" y="5684760"/>
              <a:ext cx="172800" cy="49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73800" y="5757840"/>
              <a:ext cx="19692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18280" y="5611680"/>
              <a:ext cx="220680" cy="49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1080" y="5708520"/>
              <a:ext cx="22068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78680" y="5783400"/>
              <a:ext cx="727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36760" y="2589120"/>
              <a:ext cx="7100640" cy="2235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57440" y="3154320"/>
              <a:ext cx="2849400" cy="9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57440" y="3154320"/>
              <a:ext cx="2874960" cy="10065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65880" y="3154320"/>
              <a:ext cx="2849400" cy="9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65880" y="3154320"/>
              <a:ext cx="2874960" cy="10065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55720" y="3276720"/>
              <a:ext cx="18432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55720" y="3276720"/>
              <a:ext cx="1866960" cy="3189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83160" y="3313080"/>
              <a:ext cx="167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plica timest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29000" y="3338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55720" y="3670200"/>
              <a:ext cx="270216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55720" y="3670200"/>
              <a:ext cx="2727360" cy="4176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25720" y="3670200"/>
              <a:ext cx="1440" cy="392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20920" y="3670200"/>
              <a:ext cx="1440" cy="392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14680" y="3670200"/>
              <a:ext cx="1440" cy="392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35440" y="3670200"/>
              <a:ext cx="1440" cy="392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05080" y="3670200"/>
              <a:ext cx="1800" cy="392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24400" y="3670200"/>
              <a:ext cx="1440" cy="392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19600" y="3670200"/>
              <a:ext cx="1440" cy="392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14800" y="3670200"/>
              <a:ext cx="1440" cy="392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15760" y="3772080"/>
              <a:ext cx="9820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pdate 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64160" y="3252960"/>
              <a:ext cx="1817640" cy="29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64160" y="3218040"/>
              <a:ext cx="1843200" cy="3189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57840" y="324324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62560" y="3313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16560" y="324324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st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38960" y="3621240"/>
              <a:ext cx="27032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38960" y="3621240"/>
              <a:ext cx="2727000" cy="4410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662880" y="371016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259240" y="3817800"/>
              <a:ext cx="122400" cy="7308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0" y="15"/>
                  </a:moveTo>
                  <a:lnTo>
                    <a:pt x="0" y="0"/>
                  </a:lnTo>
                  <a:lnTo>
                    <a:pt x="77" y="15"/>
                  </a:lnTo>
                  <a:lnTo>
                    <a:pt x="0" y="4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81360" y="3841920"/>
              <a:ext cx="677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68960" y="433404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15" y="15"/>
                  </a:moveTo>
                  <a:lnTo>
                    <a:pt x="31" y="0"/>
                  </a:lnTo>
                  <a:lnTo>
                    <a:pt x="77" y="77"/>
                  </a:lnTo>
                  <a:lnTo>
                    <a:pt x="0" y="31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97600" y="4160880"/>
              <a:ext cx="195120" cy="196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89640" y="4284720"/>
              <a:ext cx="24336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489640" y="4284720"/>
              <a:ext cx="2457360" cy="4176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63880" y="4349880"/>
              <a:ext cx="224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ecuted operation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707720" y="355608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47960" y="39006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pd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30560" y="2981160"/>
              <a:ext cx="74520" cy="123840"/>
            </a:xfrm>
            <a:custGeom>
              <a:avLst/>
              <a:gdLst/>
              <a:ahLst/>
              <a:rect l="l" t="t" r="r" b="b"/>
              <a:pathLst>
                <a:path w="47" h="78">
                  <a:moveTo>
                    <a:pt x="16" y="0"/>
                  </a:moveTo>
                  <a:lnTo>
                    <a:pt x="47" y="0"/>
                  </a:lnTo>
                  <a:lnTo>
                    <a:pt x="16" y="7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56120" y="1459080"/>
              <a:ext cx="1440" cy="1498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73320" y="4235400"/>
              <a:ext cx="73080" cy="147600"/>
            </a:xfrm>
            <a:custGeom>
              <a:avLst/>
              <a:gdLst/>
              <a:ahLst/>
              <a:rect l="l" t="t" r="r" b="b"/>
              <a:pathLst>
                <a:path w="46" h="93">
                  <a:moveTo>
                    <a:pt x="31" y="77"/>
                  </a:moveTo>
                  <a:lnTo>
                    <a:pt x="0" y="77"/>
                  </a:lnTo>
                  <a:lnTo>
                    <a:pt x="46" y="0"/>
                  </a:lnTo>
                  <a:lnTo>
                    <a:pt x="46" y="93"/>
                  </a:lnTo>
                  <a:lnTo>
                    <a:pt x="31" y="7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1755720" y="4383000"/>
              <a:ext cx="466920" cy="1596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39880" y="4235400"/>
              <a:ext cx="73080" cy="122400"/>
            </a:xfrm>
            <a:custGeom>
              <a:avLst/>
              <a:gdLst/>
              <a:ahLst/>
              <a:rect l="l" t="t" r="r" b="b"/>
              <a:pathLst>
                <a:path w="46" h="77">
                  <a:moveTo>
                    <a:pt x="1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6" y="62"/>
                  </a:lnTo>
                  <a:lnTo>
                    <a:pt x="15" y="7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2689200" y="4357800"/>
              <a:ext cx="588960" cy="1596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34800" y="530388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pd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78920" y="1765440"/>
              <a:ext cx="63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ss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05760" y="203508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36760" y="5708520"/>
              <a:ext cx="539640" cy="51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436760" y="5708520"/>
              <a:ext cx="563400" cy="54144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4000" y="58482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35440" y="2244600"/>
              <a:ext cx="515880" cy="1969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12960" y="5046840"/>
              <a:ext cx="466920" cy="195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60960" y="1360440"/>
              <a:ext cx="248292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60960" y="1360440"/>
              <a:ext cx="2506680" cy="5158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391000" y="1359000"/>
              <a:ext cx="1800" cy="492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54000" y="1393920"/>
              <a:ext cx="67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Rep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83000" y="161784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imest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15640" y="1479600"/>
              <a:ext cx="88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Replica lo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67200" y="5537160"/>
              <a:ext cx="28494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67200" y="5537160"/>
              <a:ext cx="2874960" cy="3189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45200" y="5537160"/>
              <a:ext cx="1440" cy="320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71240" y="5572080"/>
              <a:ext cx="1093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Operation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48160" y="557208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Upda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37560" y="5621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248160" y="557208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Pr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29360" y="5537160"/>
              <a:ext cx="0" cy="3081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79480" y="5046840"/>
              <a:ext cx="4669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79480" y="5046840"/>
              <a:ext cx="492120" cy="195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008160" y="5708520"/>
              <a:ext cx="565200" cy="51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08160" y="5708520"/>
              <a:ext cx="590760" cy="54144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63320" y="58482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082640" y="2330280"/>
              <a:ext cx="153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ic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39440" y="1200240"/>
              <a:ext cx="121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ther replic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841840" y="1200240"/>
              <a:ext cx="90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03720" y="2736720"/>
              <a:ext cx="181764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03720" y="2736720"/>
              <a:ext cx="1842840" cy="3193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02080" y="2752560"/>
              <a:ext cx="150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stamp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73320" y="1459080"/>
              <a:ext cx="73080" cy="122040"/>
            </a:xfrm>
            <a:custGeom>
              <a:avLst/>
              <a:gdLst/>
              <a:ahLst/>
              <a:rect l="l" t="t" r="r" b="b"/>
              <a:pathLst>
                <a:path w="46" h="77">
                  <a:moveTo>
                    <a:pt x="15" y="77"/>
                  </a:moveTo>
                  <a:lnTo>
                    <a:pt x="0" y="77"/>
                  </a:lnTo>
                  <a:lnTo>
                    <a:pt x="15" y="0"/>
                  </a:lnTo>
                  <a:lnTo>
                    <a:pt x="46" y="77"/>
                  </a:lnTo>
                  <a:lnTo>
                    <a:pt x="15" y="7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97080" y="1606680"/>
              <a:ext cx="1440" cy="1498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952640" y="2244600"/>
              <a:ext cx="49068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52640" y="2244600"/>
              <a:ext cx="515880" cy="1969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2917800" y="1356840"/>
              <a:ext cx="1344600" cy="8938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2917800" y="1860120"/>
              <a:ext cx="1357200" cy="592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3444840" y="1872720"/>
              <a:ext cx="3321000" cy="567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81320" y="5041800"/>
              <a:ext cx="3659040" cy="478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716200" y="5041800"/>
              <a:ext cx="1244520" cy="490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03600" y="5243400"/>
              <a:ext cx="1270080" cy="6033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0-11-26T15:46:56Z</dcterms:modified>
  <cp:revision>45</cp:revision>
  <dc:subject/>
  <dc:title>Figure 15.1 A distributed multimedia system</dc:title>
</cp:coreProperties>
</file>